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F5346C3-36C2-4A1C-9B5A-B1E6EC249EC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A53A2A6-B999-4E8B-A859-615C6B6CB7D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FDFD6E1-1A4C-498D-A89A-B62CBB8FF2D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C036022-9B66-4566-9D4B-7504A343A1F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3E2CEEB-1BBF-4123-8E80-FE74FFB597C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6D1ECC0-989C-4462-9475-A525B302960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3F53C5D-0512-434C-BCD0-14F1ED27F59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BC8338F-F837-4318-B83C-CB1B954BF7D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F60A375-12B0-43B2-A9BD-3680B55DCF4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6727F04-0A06-42D0-838B-6EE58A5B56E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AC1811D-8ECC-4425-B3C2-21F4AF2C510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CE8A50F-1920-4417-9876-7D927CD24A7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8278212-8B61-42BF-93C3-D1511BED844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C432DE3-B964-4F9C-91E9-6F1803267BE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344A437-9A98-42E2-96EA-6A4C32E8303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5493937-D110-4695-ACE7-B302BD1BE29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C94BA8D-C121-4425-82EE-11BDDEBA394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8E5CF18-D75F-4C8B-B011-AD15D98E169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41CF5BE-CF0C-43A4-8B94-367DAD54D2B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C08F6B5-B75B-40B5-9FC7-F135D5EF878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FD58F99-D6AF-4C64-9A5A-65F03555FA8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8602-CCA1-4AC0-ADD7-E3B1BD018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2F63-861A-4EDC-A8EF-087EB024C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BD1B-4B77-4C5F-8AA9-56BDE2171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20AB-6F51-4ECC-A1BC-043AC87EB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5C3-E36A-4C13-9E64-476730214A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2D8-CC4B-41AE-B6AA-048E31D9B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985-BC85-443D-B86E-C0ECB770E8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5A8-B3BE-401A-A00E-26F818D4C6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B96-CF2D-400E-B820-A0B4C33C2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65A-F2E5-412B-9C11-7A54FE4CDD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114-7C0A-470F-9FC2-613EC7FDC5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FF1B-D2BA-40D6-9E9E-DA288D548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164-057E-4B2B-9E5A-43D377A024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9A2-8771-46D5-AA1C-DDAEA4EA9C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733-4D31-4B30-B642-C76D8ED04E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442-E108-4BEB-8945-D27166CF7D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B64-4F48-401C-89B7-FD9D74773D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AF8C-DF4F-456A-9F70-6AD7B06ED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FE6F-943A-4D79-9731-E628D1D1C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12DB-8472-4400-BA2E-9E1193FA5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0E71-EBD1-41B9-AA57-0ECE669CB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E7CA-95D4-463F-B0A4-A42A4682F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9F33-EC0E-4110-B25D-586C14373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89BE-D6F4-4B01-8648-A1692AF1B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80A8-5243-438B-B3B6-72D590184E2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20EC-C62A-4C61-A95A-29F575E5A926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AA50-8082-4913-A84C-1F6DC79B0FB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1405080" y="1973160"/>
            <a:ext cx="6622920" cy="2151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Отчета о финансовых результат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форма </a:t>
            </a: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0503121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570F-80B0-4D68-B72C-DB04DA01748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71280"/>
          <a:ext cx="8943840" cy="6656400"/>
        </p:xfrm>
        <a:graphic>
          <a:graphicData uri="http://schemas.openxmlformats.org/drawingml/2006/table">
            <a:tbl>
              <a:tblPr/>
              <a:tblGrid>
                <a:gridCol w="4235400"/>
                <a:gridCol w="430200"/>
                <a:gridCol w="512640"/>
                <a:gridCol w="1255680"/>
                <a:gridCol w="1254240"/>
                <a:gridCol w="1255680"/>
              </a:tblGrid>
              <a:tr h="5533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65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240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47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88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международным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714240"/>
          <a:ext cx="7961400" cy="2355840"/>
        </p:xfrm>
        <a:graphic>
          <a:graphicData uri="http://schemas.openxmlformats.org/drawingml/2006/table">
            <a:tbl>
              <a:tblPr/>
              <a:tblGrid>
                <a:gridCol w="4081320"/>
                <a:gridCol w="1089000"/>
                <a:gridCol w="1362240"/>
                <a:gridCol w="1428840"/>
              </a:tblGrid>
              <a:tr h="24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6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262"/>
          <p:cNvSpPr/>
          <p:nvPr/>
        </p:nvSpPr>
        <p:spPr>
          <a:xfrm>
            <a:off x="108000" y="285840"/>
            <a:ext cx="755964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течении года были следующие операции по счету 210604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ACBD-20A3-4784-95E4-A96508EE8CC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920"/>
          <a:ext cx="9144000" cy="4537080"/>
        </p:xfrm>
        <a:graphic>
          <a:graphicData uri="http://schemas.openxmlformats.org/drawingml/2006/table">
            <a:tbl>
              <a:tblPr/>
              <a:tblGrid>
                <a:gridCol w="4329000"/>
                <a:gridCol w="441360"/>
                <a:gridCol w="525600"/>
                <a:gridCol w="1282680"/>
                <a:gridCol w="12826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му страхованию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й помощи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пособия, выплачиваемые организациями сектора государственного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тизация основных средств и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резвычайные 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72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стр291 –сьр.2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4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8636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ый результ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налогооб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стр.010 – стр. 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6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8000" y="4543560"/>
          <a:ext cx="8856720" cy="1100160"/>
        </p:xfrm>
        <a:graphic>
          <a:graphicData uri="http://schemas.openxmlformats.org/drawingml/2006/table">
            <a:tbl>
              <a:tblPr/>
              <a:tblGrid>
                <a:gridCol w="4403520"/>
                <a:gridCol w="355680"/>
                <a:gridCol w="496800"/>
                <a:gridCol w="1163880"/>
                <a:gridCol w="1252440"/>
                <a:gridCol w="11844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9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200" y="5670720"/>
          <a:ext cx="8872560" cy="1116000"/>
        </p:xfrm>
        <a:graphic>
          <a:graphicData uri="http://schemas.openxmlformats.org/drawingml/2006/table">
            <a:tbl>
              <a:tblPr/>
              <a:tblGrid>
                <a:gridCol w="4249800"/>
                <a:gridCol w="503280"/>
                <a:gridCol w="504720"/>
                <a:gridCol w="1167120"/>
                <a:gridCol w="1250640"/>
                <a:gridCol w="11970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195"/>
          <p:cNvSpPr/>
          <p:nvPr/>
        </p:nvSpPr>
        <p:spPr>
          <a:xfrm>
            <a:off x="71280" y="4784400"/>
            <a:ext cx="8964720" cy="508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b601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Чистый операционный результат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0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1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29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8311-8DEB-41C2-A7BE-984681702D5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" y="220680"/>
          <a:ext cx="8964720" cy="4894200"/>
        </p:xfrm>
        <a:graphic>
          <a:graphicData uri="http://schemas.openxmlformats.org/drawingml/2006/table">
            <a:tbl>
              <a:tblPr/>
              <a:tblGrid>
                <a:gridCol w="4246560"/>
                <a:gridCol w="430200"/>
                <a:gridCol w="511200"/>
                <a:gridCol w="1262160"/>
                <a:gridCol w="1254240"/>
                <a:gridCol w="126036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337"/>
          <p:cNvSpPr/>
          <p:nvPr/>
        </p:nvSpPr>
        <p:spPr>
          <a:xfrm>
            <a:off x="106200" y="4660920"/>
            <a:ext cx="8964720" cy="2274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2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 0101 + сч. 010601  + сч. 010701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2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0101 + сч. 0104 + сч. 010601 + сч. 0107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3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 сч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 10602 + 10702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104 +  сч.10602 + сч. 10702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010703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сч. 0107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8"/>
          <p:cNvSpPr/>
          <p:nvPr/>
        </p:nvSpPr>
        <p:spPr>
          <a:xfrm>
            <a:off x="365040" y="220680"/>
            <a:ext cx="7921800" cy="56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10 + стр.390 – стр.51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0 +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9"/>
          <p:cNvSpPr/>
          <p:nvPr/>
        </p:nvSpPr>
        <p:spPr>
          <a:xfrm>
            <a:off x="5075280" y="120204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2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0"/>
          <p:cNvSpPr/>
          <p:nvPr/>
        </p:nvSpPr>
        <p:spPr>
          <a:xfrm>
            <a:off x="4930920" y="914400"/>
            <a:ext cx="381780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.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310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+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+c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.350+стр.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3"/>
          <p:cNvSpPr/>
          <p:nvPr/>
        </p:nvSpPr>
        <p:spPr>
          <a:xfrm>
            <a:off x="5435640" y="206712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4"/>
          <p:cNvSpPr/>
          <p:nvPr/>
        </p:nvSpPr>
        <p:spPr>
          <a:xfrm>
            <a:off x="5435640" y="293076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5"/>
          <p:cNvSpPr/>
          <p:nvPr/>
        </p:nvSpPr>
        <p:spPr>
          <a:xfrm>
            <a:off x="5506920" y="386568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9E5E-E12F-42D2-9C95-8CD84948BE1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44280"/>
          <a:ext cx="8832960" cy="2017800"/>
        </p:xfrm>
        <a:graphic>
          <a:graphicData uri="http://schemas.openxmlformats.org/drawingml/2006/table">
            <a:tbl>
              <a:tblPr/>
              <a:tblGrid>
                <a:gridCol w="4183200"/>
                <a:gridCol w="423720"/>
                <a:gridCol w="506520"/>
                <a:gridCol w="1241280"/>
                <a:gridCol w="1238400"/>
                <a:gridCol w="12398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760" y="2654280"/>
          <a:ext cx="8913960" cy="4173480"/>
        </p:xfrm>
        <a:graphic>
          <a:graphicData uri="http://schemas.openxmlformats.org/drawingml/2006/table">
            <a:tbl>
              <a:tblPr/>
              <a:tblGrid>
                <a:gridCol w="849240"/>
                <a:gridCol w="741600"/>
                <a:gridCol w="760320"/>
                <a:gridCol w="762120"/>
                <a:gridCol w="760320"/>
                <a:gridCol w="762120"/>
                <a:gridCol w="763560"/>
                <a:gridCol w="760320"/>
                <a:gridCol w="762120"/>
                <a:gridCol w="760320"/>
                <a:gridCol w="871560"/>
                <a:gridCol w="360360"/>
              </a:tblGrid>
              <a:tr h="309960"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89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51" name="Oval 386"/>
          <p:cNvSpPr/>
          <p:nvPr/>
        </p:nvSpPr>
        <p:spPr>
          <a:xfrm>
            <a:off x="5580000" y="2637000"/>
            <a:ext cx="1371600" cy="38088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93"/>
          <p:cNvSpPr/>
          <p:nvPr/>
        </p:nvSpPr>
        <p:spPr>
          <a:xfrm>
            <a:off x="1206360" y="389880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4"/>
          <p:cNvSpPr/>
          <p:nvPr/>
        </p:nvSpPr>
        <p:spPr>
          <a:xfrm>
            <a:off x="1206360" y="440676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0"/>
          <p:cNvSpPr/>
          <p:nvPr/>
        </p:nvSpPr>
        <p:spPr>
          <a:xfrm>
            <a:off x="1187280" y="4076640"/>
            <a:ext cx="701064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24"/>
          <p:cNvSpPr/>
          <p:nvPr/>
        </p:nvSpPr>
        <p:spPr>
          <a:xfrm>
            <a:off x="5580000" y="5805360"/>
            <a:ext cx="685800" cy="28764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6"/>
          <p:cNvSpPr/>
          <p:nvPr/>
        </p:nvSpPr>
        <p:spPr>
          <a:xfrm>
            <a:off x="3924360" y="5400720"/>
            <a:ext cx="1828800" cy="32652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0"/>
          <p:cNvSpPr/>
          <p:nvPr/>
        </p:nvSpPr>
        <p:spPr>
          <a:xfrm>
            <a:off x="395280" y="2111040"/>
            <a:ext cx="769608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основных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величение стоимости ОС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меньшение стоимости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63A1-F4D9-4863-A25B-0A946642B03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442800"/>
          <a:ext cx="8929800" cy="662940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1200"/>
                <a:gridCol w="1255680"/>
                <a:gridCol w="1424160"/>
                <a:gridCol w="1081080"/>
              </a:tblGrid>
              <a:tr h="9417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61"/>
          <p:cNvSpPr/>
          <p:nvPr/>
        </p:nvSpPr>
        <p:spPr>
          <a:xfrm>
            <a:off x="1044720" y="76680"/>
            <a:ext cx="7619760" cy="24948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Аналогично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 заносится информация по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м 330 – 3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998D-4D24-4E1A-B574-308D363FA43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-819000"/>
          <a:ext cx="9036000" cy="7611840"/>
        </p:xfrm>
        <a:graphic>
          <a:graphicData uri="http://schemas.openxmlformats.org/drawingml/2006/table">
            <a:tbl>
              <a:tblPr/>
              <a:tblGrid>
                <a:gridCol w="4319640"/>
                <a:gridCol w="407880"/>
                <a:gridCol w="457200"/>
                <a:gridCol w="135000"/>
                <a:gridCol w="1195560"/>
                <a:gridCol w="1099800"/>
                <a:gridCol w="142092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тр.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 Стр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  410 +420 +440 + 460 +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 +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21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030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02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401Депо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 бюджетных ссуд, бюджет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, 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0854-81C3-4AC5-8E6C-A1938E7FD4D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929800" cy="215568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69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92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7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-36360" y="4176720"/>
          <a:ext cx="9144000" cy="1990800"/>
        </p:xfrm>
        <a:graphic>
          <a:graphicData uri="http://schemas.openxmlformats.org/drawingml/2006/table">
            <a:tbl>
              <a:tblPr/>
              <a:tblGrid>
                <a:gridCol w="900000"/>
                <a:gridCol w="669960"/>
                <a:gridCol w="788760"/>
                <a:gridCol w="784440"/>
                <a:gridCol w="788760"/>
                <a:gridCol w="787680"/>
                <a:gridCol w="787320"/>
                <a:gridCol w="789120"/>
                <a:gridCol w="787320"/>
                <a:gridCol w="796680"/>
                <a:gridCol w="866880"/>
                <a:gridCol w="39708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6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2 84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Line 379"/>
          <p:cNvSpPr/>
          <p:nvPr/>
        </p:nvSpPr>
        <p:spPr>
          <a:xfrm>
            <a:off x="1206360" y="5092560"/>
            <a:ext cx="6172200" cy="0"/>
          </a:xfrm>
          <a:prstGeom prst="line">
            <a:avLst/>
          </a:prstGeom>
          <a:ln w="1908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1"/>
          <p:cNvSpPr/>
          <p:nvPr/>
        </p:nvSpPr>
        <p:spPr>
          <a:xfrm>
            <a:off x="407880" y="296100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)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+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40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2"/>
          <p:cNvSpPr/>
          <p:nvPr/>
        </p:nvSpPr>
        <p:spPr>
          <a:xfrm>
            <a:off x="368280" y="360864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020100000 (</a:t>
            </a:r>
            <a:r>
              <a:rPr b="1" lang="ru-RU" sz="1400" spc="-1" strike="noStrike">
                <a:solidFill>
                  <a:srgbClr val="000000"/>
                </a:solidFill>
                <a:latin typeface="Arial Cyr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)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+ 02040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9"/>
          <p:cNvSpPr/>
          <p:nvPr/>
        </p:nvSpPr>
        <p:spPr>
          <a:xfrm>
            <a:off x="5651640" y="5805360"/>
            <a:ext cx="76176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1"/>
          <p:cNvSpPr/>
          <p:nvPr/>
        </p:nvSpPr>
        <p:spPr>
          <a:xfrm>
            <a:off x="4863960" y="6275520"/>
            <a:ext cx="2032200" cy="3870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3"/>
          <p:cNvSpPr/>
          <p:nvPr/>
        </p:nvSpPr>
        <p:spPr>
          <a:xfrm>
            <a:off x="520560" y="2398320"/>
            <a:ext cx="769644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4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9"/>
          <p:cNvSpPr/>
          <p:nvPr/>
        </p:nvSpPr>
        <p:spPr>
          <a:xfrm flipV="1">
            <a:off x="9109080" y="1413000"/>
            <a:ext cx="0" cy="57600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6212-6030-4C86-AD85-AEAEB2C3053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1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15920"/>
          <a:ext cx="8929800" cy="2052720"/>
        </p:xfrm>
        <a:graphic>
          <a:graphicData uri="http://schemas.openxmlformats.org/drawingml/2006/table">
            <a:tbl>
              <a:tblPr/>
              <a:tblGrid>
                <a:gridCol w="4229280"/>
                <a:gridCol w="428400"/>
                <a:gridCol w="513000"/>
                <a:gridCol w="1252440"/>
                <a:gridCol w="1254240"/>
                <a:gridCol w="12524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869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10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8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79280" y="3932280"/>
          <a:ext cx="8929800" cy="2935080"/>
        </p:xfrm>
        <a:graphic>
          <a:graphicData uri="http://schemas.openxmlformats.org/drawingml/2006/table">
            <a:tbl>
              <a:tblPr/>
              <a:tblGrid>
                <a:gridCol w="863640"/>
                <a:gridCol w="669960"/>
                <a:gridCol w="770040"/>
                <a:gridCol w="765000"/>
                <a:gridCol w="771480"/>
                <a:gridCol w="770040"/>
                <a:gridCol w="768240"/>
                <a:gridCol w="770040"/>
                <a:gridCol w="768240"/>
                <a:gridCol w="779760"/>
                <a:gridCol w="846000"/>
                <a:gridCol w="38736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57"/>
          <p:cNvSpPr/>
          <p:nvPr/>
        </p:nvSpPr>
        <p:spPr>
          <a:xfrm>
            <a:off x="5796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 Cyr"/>
              </a:rPr>
              <a:t>892 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8"/>
          <p:cNvSpPr/>
          <p:nvPr/>
        </p:nvSpPr>
        <p:spPr>
          <a:xfrm>
            <a:off x="5580000" y="3860640"/>
            <a:ext cx="137160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0"/>
          <p:cNvSpPr/>
          <p:nvPr/>
        </p:nvSpPr>
        <p:spPr>
          <a:xfrm>
            <a:off x="552600" y="2786400"/>
            <a:ext cx="76197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1"/>
          <p:cNvSpPr/>
          <p:nvPr/>
        </p:nvSpPr>
        <p:spPr>
          <a:xfrm>
            <a:off x="466560" y="3351600"/>
            <a:ext cx="762012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5"/>
          <p:cNvSpPr/>
          <p:nvPr/>
        </p:nvSpPr>
        <p:spPr>
          <a:xfrm>
            <a:off x="592200" y="2253960"/>
            <a:ext cx="769608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12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7"/>
          <p:cNvSpPr/>
          <p:nvPr/>
        </p:nvSpPr>
        <p:spPr>
          <a:xfrm>
            <a:off x="7020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47 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0"/>
          <p:cNvSpPr/>
          <p:nvPr/>
        </p:nvSpPr>
        <p:spPr>
          <a:xfrm>
            <a:off x="8099280" y="1968480"/>
            <a:ext cx="79236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939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1"/>
          <p:cNvSpPr/>
          <p:nvPr/>
        </p:nvSpPr>
        <p:spPr>
          <a:xfrm flipV="1">
            <a:off x="9180360" y="1483920"/>
            <a:ext cx="0" cy="57636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FE43-3EC3-498E-92C4-5747375E4EA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4920" y="-747720"/>
          <a:ext cx="9144000" cy="7738920"/>
        </p:xfrm>
        <a:graphic>
          <a:graphicData uri="http://schemas.openxmlformats.org/drawingml/2006/table">
            <a:tbl>
              <a:tblPr/>
              <a:tblGrid>
                <a:gridCol w="4330800"/>
                <a:gridCol w="438120"/>
                <a:gridCol w="525240"/>
                <a:gridCol w="1282680"/>
                <a:gridCol w="12844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854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13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869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х ссуд, бюджетных креди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3834-4764-49FF-8CB3-070E447586D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440" y="228600"/>
          <a:ext cx="8774280" cy="6442200"/>
        </p:xfrm>
        <a:graphic>
          <a:graphicData uri="http://schemas.openxmlformats.org/drawingml/2006/table">
            <a:tbl>
              <a:tblPr/>
              <a:tblGrid>
                <a:gridCol w="4156200"/>
                <a:gridCol w="420480"/>
                <a:gridCol w="503280"/>
                <a:gridCol w="1231920"/>
                <a:gridCol w="1309680"/>
                <a:gridCol w="11527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стр.520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стр.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стр.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9512-D0B4-4AEF-B57D-3A58DBCDE88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DD26-82B1-4446-9095-05388D6F2D4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360" y="476280"/>
            <a:ext cx="9144000" cy="64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Принцип заполнения строк остался преж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Отдельны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полнении  строки 040 графы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сумма начисленных доход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ажаются за минусом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5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Суммы принудительного изъятия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61 – 063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оступления от бюджет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8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Взносы на социальные нужды»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1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еречисления другим бюджетам бюджетной систем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 не запол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92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реализации актив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стр.1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Прочие доходы» отражаются по данным соответствен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ов 2 401 10 172 и 2 401 10 180, увеличенные на сумму начисленного  за счет этих доходов налога на прибы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и 110 «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Доходы будущих периодов» отражается разница между кредитовым и дебетовым оборо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 2 401 4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будущих периодов от рыночных  продаж  готовой продукции, работ,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ившихся за отчетный период.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 160 – 280 в графе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ные отражаются с учетом дебетового оборота счета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44280"/>
            <a:ext cx="9144000" cy="406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153b"/>
                </a:solidFill>
                <a:latin typeface="Arial"/>
              </a:rPr>
              <a:t>Отчет  (форма 0503121). Основ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052D-40AA-4818-94D3-9D321D4E76E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44280"/>
          <a:ext cx="8929800" cy="4137120"/>
        </p:xfrm>
        <a:graphic>
          <a:graphicData uri="http://schemas.openxmlformats.org/drawingml/2006/table">
            <a:tbl>
              <a:tblPr/>
              <a:tblGrid>
                <a:gridCol w="4229280"/>
                <a:gridCol w="668160"/>
                <a:gridCol w="576360"/>
                <a:gridCol w="1295280"/>
                <a:gridCol w="1268280"/>
                <a:gridCol w="892440"/>
              </a:tblGrid>
              <a:tr h="107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3 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6 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78 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 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97"/>
          <p:cNvSpPr/>
          <p:nvPr/>
        </p:nvSpPr>
        <p:spPr>
          <a:xfrm>
            <a:off x="0" y="4011480"/>
            <a:ext cx="434808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1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7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9"/>
          <p:cNvSpPr/>
          <p:nvPr/>
        </p:nvSpPr>
        <p:spPr>
          <a:xfrm>
            <a:off x="4643280" y="4011480"/>
            <a:ext cx="416880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2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8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1211-4BF8-4F36-BBAB-6546D65F212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476280"/>
          <a:ext cx="8929800" cy="569124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33 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6 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7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EFD1-E173-4F89-A3C5-5D0A60C385F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200" y="44280"/>
          <a:ext cx="8929800" cy="19926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30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3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4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0"/>
          <p:cNvSpPr/>
          <p:nvPr/>
        </p:nvSpPr>
        <p:spPr>
          <a:xfrm>
            <a:off x="260280" y="149040"/>
            <a:ext cx="773280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перации с финансовыми активами и обязательствами</a:t>
            </a:r>
            <a:r>
              <a:rPr b="1" lang="ru-RU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80)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90) – 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5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4076640"/>
          <a:ext cx="8929800" cy="13050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1200"/>
                <a:gridCol w="1255680"/>
                <a:gridCol w="1250640"/>
                <a:gridCol w="12542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06200" y="5373720"/>
          <a:ext cx="8929800" cy="148572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70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309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 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93600" y="3716280"/>
          <a:ext cx="8942400" cy="274680"/>
        </p:xfrm>
        <a:graphic>
          <a:graphicData uri="http://schemas.openxmlformats.org/drawingml/2006/table">
            <a:tbl>
              <a:tblPr/>
              <a:tblGrid>
                <a:gridCol w="4233960"/>
                <a:gridCol w="430200"/>
                <a:gridCol w="514440"/>
                <a:gridCol w="1253880"/>
                <a:gridCol w="1255680"/>
                <a:gridCol w="125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98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 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59"/>
          <p:cNvSpPr/>
          <p:nvPr/>
        </p:nvSpPr>
        <p:spPr>
          <a:xfrm>
            <a:off x="900000" y="257040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10) + (строка 3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(строка 510) 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934920" y="314676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310) + (строка 3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 2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934920" y="206568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1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 - 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2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1D1C-F484-4CB9-8296-C8181B8B780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EC38-D485-4621-B558-84A02114D6F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60" y="-27000"/>
            <a:ext cx="9144000" cy="52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ы расходов, сформировавших себестоимость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выполненных работ, оказанных услуг на основании данных аналитического учета в разрезе соответствующих КОСГ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106 34 440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«Уменьшение вложений в материальные запасы – иное движимое имущество учреждения»,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6 44 440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«Уменьшение вложений в материальные запасы – предметы лизинг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28497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а стоимости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реализованной готовой продукции по счетам: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1 440, 2 105 32 440, 2 105 33 440, 2 105 34 440, 2 105 35 44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6 440, 2 105 37 440, 2 105 38 440, 2 105 44 440, 2 105 46 44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Уменьшение стоимости прочих  материальных запасов  - предметов лизинг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и переданной заказчику готовой продукции (по статье 272 КОСГ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Суммы  расходов,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связанных с реализацией готовой продукции по данным соответствующих счетов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а  2  401 20 2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Расходы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4BDF-EBD4-4B20-97AB-EBF94CA70B4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2860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08000" y="176760"/>
            <a:ext cx="896472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 финансовых результата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. 0503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50920" y="1557360"/>
            <a:ext cx="8762760" cy="5580360"/>
          </a:xfrm>
          <a:prstGeom prst="rect">
            <a:avLst/>
          </a:prstGeom>
          <a:gradFill rotWithShape="0">
            <a:gsLst>
              <a:gs pos="0">
                <a:srgbClr val="3cc44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чет п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наименования показ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строк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Классификации операций сектора государственного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юджетная деятельность» отражаются показатели финансового результата по операциям в рамках исполнения соответствующего бюдж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осящая доход деятельность» отражаются показатели финансового результата деятельности в рамках предпринимательской и иной приносящей доход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редства во временном распоряж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того» по всем строкам отражается сумма показателей по графам 4,5 и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A934-8E49-4056-817D-D070F713C26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8478720" y="646560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09480" y="457200"/>
            <a:ext cx="8305920" cy="173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тый операционный результа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как по бюджетным средствам, так и по внебюджетным средства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ражается, как сумма изменения финансового результата за отчетный период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 формир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39640" y="3357720"/>
            <a:ext cx="331308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Чистый операцион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788000" y="4331520"/>
            <a:ext cx="41050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нефинансовыми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плюс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</a:t>
            </a:r>
            <a:r>
              <a:rPr b="1" lang="ru-RU" sz="1600" spc="-1" strike="noStrike">
                <a:solidFill>
                  <a:srgbClr val="000000"/>
                </a:solidFill>
                <a:latin typeface="Arial Cyr"/>
              </a:rPr>
              <a:t>финансовыми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активами 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минус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 операции с </a:t>
            </a:r>
            <a:r>
              <a:rPr b="1" lang="ru-RU" sz="1600" spc="-1" strike="noStrike">
                <a:solidFill>
                  <a:srgbClr val="28497a"/>
                </a:solidFill>
                <a:latin typeface="Arial Cyr"/>
              </a:rPr>
              <a:t>обязатель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012000" y="3716280"/>
            <a:ext cx="1439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213000">
            <a:off x="3492000" y="5084280"/>
            <a:ext cx="1657440" cy="13813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85040 h 1381320"/>
              <a:gd name="textAreaBottom" fmla="*/ 119628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3564000" y="2349360"/>
            <a:ext cx="1584360" cy="102096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36800 h 1020960"/>
              <a:gd name="textAreaBottom" fmla="*/ 88416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5364000" y="2658240"/>
            <a:ext cx="3313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перационный доход до налогообложения минус налог на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1A60-11AA-4F44-B565-8E7A5ADB996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7024680"/>
        </p:xfrm>
        <a:graphic>
          <a:graphicData uri="http://schemas.openxmlformats.org/drawingml/2006/table">
            <a:tbl>
              <a:tblPr/>
              <a:tblGrid>
                <a:gridCol w="4195080"/>
                <a:gridCol w="338040"/>
                <a:gridCol w="473040"/>
                <a:gridCol w="1084320"/>
                <a:gridCol w="811080"/>
                <a:gridCol w="72000"/>
                <a:gridCol w="303120"/>
                <a:gridCol w="455400"/>
                <a:gridCol w="706680"/>
                <a:gridCol w="705240"/>
              </a:tblGrid>
              <a:tr h="25848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</a:rPr>
                        <a:t>ОТЧЕТ О ФИНАНСОВЫХ РЕЗУЛЬТАТАХ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  <a:ea typeface="Times New Roman"/>
                        </a:rPr>
                        <a:t>0503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22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1 _______января________ 2012_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е (главный распорядитель (распорядитель), получател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420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ичность: 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 gridSpan="6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Е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8640">
                <a:tc gridSpan="9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6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5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3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3" name="Line 225"/>
          <p:cNvSpPr/>
          <p:nvPr/>
        </p:nvSpPr>
        <p:spPr>
          <a:xfrm>
            <a:off x="9907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6"/>
          <p:cNvSpPr/>
          <p:nvPr/>
        </p:nvSpPr>
        <p:spPr>
          <a:xfrm>
            <a:off x="14479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7"/>
          <p:cNvSpPr/>
          <p:nvPr/>
        </p:nvSpPr>
        <p:spPr>
          <a:xfrm>
            <a:off x="19051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8"/>
          <p:cNvSpPr/>
          <p:nvPr/>
        </p:nvSpPr>
        <p:spPr>
          <a:xfrm>
            <a:off x="23623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2331-E50C-48BC-9206-805441B1D18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4240" y="87480"/>
          <a:ext cx="8977320" cy="430020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152360"/>
                <a:gridCol w="129708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33"/>
          <p:cNvSpPr/>
          <p:nvPr/>
        </p:nvSpPr>
        <p:spPr>
          <a:xfrm>
            <a:off x="71280" y="4373280"/>
            <a:ext cx="63723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ока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 Cyr"/>
              </a:rPr>
              <a:t>010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 Cyr"/>
              </a:rPr>
              <a:t> (Доходы)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=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.02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30+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4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5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6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8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9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0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B96-0BF6-4743-B37B-C4B7ACC342B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680" y="22320"/>
          <a:ext cx="8977320" cy="383544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297080"/>
                <a:gridCol w="115236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819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64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9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2" name="Oval 448"/>
          <p:cNvSpPr/>
          <p:nvPr/>
        </p:nvSpPr>
        <p:spPr>
          <a:xfrm>
            <a:off x="8483760" y="6541200"/>
            <a:ext cx="588960" cy="32616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900" spc="-1" strike="noStrike">
                <a:solidFill>
                  <a:srgbClr val="9900cc"/>
                </a:solidFill>
                <a:latin typeface="Arial Cyr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6000" y="5062680"/>
          <a:ext cx="8928000" cy="1795320"/>
        </p:xfrm>
        <a:graphic>
          <a:graphicData uri="http://schemas.openxmlformats.org/drawingml/2006/table">
            <a:tbl>
              <a:tblPr/>
              <a:tblGrid>
                <a:gridCol w="828720"/>
                <a:gridCol w="761760"/>
                <a:gridCol w="763560"/>
                <a:gridCol w="763560"/>
                <a:gridCol w="762120"/>
                <a:gridCol w="763560"/>
                <a:gridCol w="762120"/>
                <a:gridCol w="763560"/>
                <a:gridCol w="763560"/>
                <a:gridCol w="762120"/>
                <a:gridCol w="849240"/>
                <a:gridCol w="384120"/>
              </a:tblGrid>
              <a:tr h="3564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33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760" y="4149720"/>
          <a:ext cx="8913600" cy="1238400"/>
        </p:xfrm>
        <a:graphic>
          <a:graphicData uri="http://schemas.openxmlformats.org/drawingml/2006/table">
            <a:tbl>
              <a:tblPr/>
              <a:tblGrid>
                <a:gridCol w="826920"/>
                <a:gridCol w="762120"/>
                <a:gridCol w="762120"/>
                <a:gridCol w="761760"/>
                <a:gridCol w="762120"/>
                <a:gridCol w="760320"/>
                <a:gridCol w="762120"/>
                <a:gridCol w="762120"/>
                <a:gridCol w="761760"/>
                <a:gridCol w="762120"/>
                <a:gridCol w="846000"/>
                <a:gridCol w="384120"/>
              </a:tblGrid>
              <a:tr h="3510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</a:t>
                      </a: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44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86"/>
          <p:cNvSpPr/>
          <p:nvPr/>
        </p:nvSpPr>
        <p:spPr>
          <a:xfrm>
            <a:off x="539640" y="3932280"/>
            <a:ext cx="8386920" cy="2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течении отчетного периода были совершены следующие операции по счету 210604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4149720"/>
          <a:ext cx="8280360" cy="2430360"/>
        </p:xfrm>
        <a:graphic>
          <a:graphicData uri="http://schemas.openxmlformats.org/drawingml/2006/table">
            <a:tbl>
              <a:tblPr/>
              <a:tblGrid>
                <a:gridCol w="4302000"/>
                <a:gridCol w="1149480"/>
                <a:gridCol w="1434960"/>
                <a:gridCol w="1393920"/>
              </a:tblGrid>
              <a:tr h="27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110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04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91"/>
          <p:cNvSpPr/>
          <p:nvPr/>
        </p:nvSpPr>
        <p:spPr>
          <a:xfrm>
            <a:off x="468360" y="6605640"/>
            <a:ext cx="838656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бет 240101130    Кредит 230303730            1515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9E82-6569-4B71-9526-372EAD9A62F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15920"/>
          <a:ext cx="9144000" cy="6850080"/>
        </p:xfrm>
        <a:graphic>
          <a:graphicData uri="http://schemas.openxmlformats.org/drawingml/2006/table">
            <a:tbl>
              <a:tblPr/>
              <a:tblGrid>
                <a:gridCol w="4330800"/>
                <a:gridCol w="439560"/>
                <a:gridCol w="523800"/>
                <a:gridCol w="1284480"/>
                <a:gridCol w="1281240"/>
                <a:gridCol w="12841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1-30T08:48:56Z</dcterms:modified>
  <cp:revision>1651</cp:revision>
  <dc:subject/>
  <dc:title>Заголовок слайда отсутствует</dc:title>
</cp:coreProperties>
</file>