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6.wmf" ContentType="image/x-wmf"/>
  <Override PartName="/ppt/media/image14.wmf" ContentType="image/x-wmf"/>
  <Override PartName="/ppt/media/image9.wmf" ContentType="image/x-wmf"/>
  <Override PartName="/ppt/media/image15.wmf" ContentType="image/x-wmf"/>
  <Override PartName="/ppt/media/image1.jpeg" ContentType="image/jpeg"/>
  <Override PartName="/ppt/media/image6.jpeg" ContentType="image/jpe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0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670675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708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1800" y="-3600"/>
            <a:ext cx="2889000" cy="492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3781440" y="-3600"/>
            <a:ext cx="2889360" cy="492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99640" y="742680"/>
            <a:ext cx="4870440" cy="3652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Segoe Semibold"/>
              </a:rPr>
              <a:t>Click to move the slide</a:t>
            </a: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_FuturaOrto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-1800" y="9284760"/>
            <a:ext cx="2889000" cy="492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3781440" y="9284760"/>
            <a:ext cx="2889360" cy="492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  <a:defRPr b="0" i="1" lang="ru-RU" sz="1000" spc="-1" strike="noStrike">
                <a:solidFill>
                  <a:srgbClr val="000000"/>
                </a:solidFill>
                <a:latin typeface="a_FuturaOrt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04A1FF8C-EF26-4F31-84BE-121E3C67952A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47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1FC2568A-ECCA-4D96-927F-C568DD079B6B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71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27F60FC0-7137-4743-807D-18B5A9B15CCB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74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64A0CE7D-5CD9-4AC4-8D73-76ABA4E2C626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77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9CD552E9-FC86-47D0-8F53-9EEFC07E747D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80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5C2DF5D0-F1CF-42CC-904B-71C5A04DE39E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83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83BE497C-1227-447D-B9CE-EF5629E7698C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86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F6999248-3A57-4663-AE48-115FA32F55AA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89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EB5DDDF2-4453-4744-92D2-703BF91776F2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92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387EE8CA-5E3F-437D-8A5F-6FB3CCE37D22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50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3496A724-7625-4956-BB8C-B6C570B958AD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95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A013B62D-FE08-4E91-B46F-AFB6E124EEDF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98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A51FBBFF-6DFD-4EED-8CAB-F33E8F3D704A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53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2BDB4716-FB00-4FB3-A3B0-69DA313C998E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56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1A801485-C913-44F1-93A6-1165D078F8F6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59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B51E11FE-1074-493F-B45F-44944A8C8F55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62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BF605E49-F6F2-454F-A073-B512A58740E6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65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AA7069DC-F80B-4A50-9FEE-C7CD74393958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68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0E3E86FF-90CE-4472-95B6-C1C0C4E8DE52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8349F-85F9-412A-B8FA-EB11C4B68C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520" y="345600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F9467-C04B-445E-B2BE-02D72477E7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89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CE8CD-A7BE-4650-8369-91AB0B61E1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1660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5268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52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1660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5268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E29B0-81C8-466A-BB3A-94D1B16D2D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2FCA-4B12-4961-BE05-3F0BD59B579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7A42-9363-4799-87CF-8E7DAF2CC93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8950-07C2-4A2F-8FF7-A4EAD08E7D9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5EA2-0556-49DF-B195-3CDBAC1CD56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347E-89FD-452E-A91D-BD32E6D3836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520" y="228600"/>
            <a:ext cx="839340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EAAB-FD13-4EEA-8FEF-DD5B90B5456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FCAD-D893-4368-A563-0ADC4903CC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0B20D-A726-4D7F-ACEE-A518E1954D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9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B1B5-D2BD-40DA-9CFA-4347475175B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633E-7C90-4DA9-B78C-86507DBE4D8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520" y="345600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EFB0-E2CE-4DF3-B59A-01B30C0C3C8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9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E29C-E0B6-43DE-8E23-5EBB2DCD6EB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660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5268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52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660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5268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5200-385D-4CD0-926E-3E4221C0D8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D13B6-CF37-47CB-8819-C7DC10ECD6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E4E3D-33F3-4E34-BE39-9AF2BBF037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35963-D9B9-4393-8EBD-34539710A3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520" y="228600"/>
            <a:ext cx="839340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2B69A-F754-4917-A2F4-F4F09135A0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13AAD-4AAF-42DD-B674-EB7D7EB463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89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0120E-65CD-4684-A3B0-24EA98FC06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E40F4-17EB-4122-85B1-8723FA887A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4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Segoe Semibold"/>
              </a:rPr>
              <a:t>Click to edit the title text format</a:t>
            </a: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443160" indent="-443160">
              <a:lnSpc>
                <a:spcPct val="85000"/>
              </a:lnSpc>
              <a:spcBef>
                <a:spcPts val="11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1" marL="794880" indent="-35028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2" marL="1166040" indent="-36900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3" marL="1499040" indent="-33156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4" marL="1819440" indent="-30132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5" marL="1819440" indent="-30132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6" marL="1819440" indent="-30132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33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F758F-62D1-4404-9B3C-7EECB8E8AA1C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Group 9"/>
          <p:cNvGrpSpPr/>
          <p:nvPr/>
        </p:nvGrpSpPr>
        <p:grpSpPr>
          <a:xfrm>
            <a:off x="7667640" y="333360"/>
            <a:ext cx="898560" cy="1278000"/>
            <a:chOff x="7667640" y="333360"/>
            <a:chExt cx="898560" cy="1278000"/>
          </a:xfrm>
        </p:grpSpPr>
        <p:sp>
          <p:nvSpPr>
            <p:cNvPr id="41" name="Freeform 7"/>
            <p:cNvSpPr/>
            <p:nvPr/>
          </p:nvSpPr>
          <p:spPr>
            <a:xfrm>
              <a:off x="7667640" y="333360"/>
              <a:ext cx="898560" cy="1278000"/>
            </a:xfrm>
            <a:custGeom>
              <a:avLst/>
              <a:gdLst>
                <a:gd name="textAreaLeft" fmla="*/ 0 w 898560"/>
                <a:gd name="textAreaRight" fmla="*/ 898920 w 898560"/>
                <a:gd name="textAreaTop" fmla="*/ 0 h 1278000"/>
                <a:gd name="textAreaBottom" fmla="*/ 1278360 h 1278000"/>
              </a:gdLst>
              <a:ahLst/>
              <a:rect l="textAreaLeft" t="textAreaTop" r="textAreaRight" b="textAreaBottom"/>
              <a:pathLst>
                <a:path w="1414" h="2013">
                  <a:moveTo>
                    <a:pt x="440" y="1445"/>
                  </a:moveTo>
                  <a:lnTo>
                    <a:pt x="415" y="1404"/>
                  </a:lnTo>
                  <a:lnTo>
                    <a:pt x="393" y="1363"/>
                  </a:lnTo>
                  <a:lnTo>
                    <a:pt x="371" y="1321"/>
                  </a:lnTo>
                  <a:lnTo>
                    <a:pt x="352" y="1279"/>
                  </a:lnTo>
                  <a:lnTo>
                    <a:pt x="334" y="1236"/>
                  </a:lnTo>
                  <a:lnTo>
                    <a:pt x="317" y="1193"/>
                  </a:lnTo>
                  <a:lnTo>
                    <a:pt x="301" y="1149"/>
                  </a:lnTo>
                  <a:lnTo>
                    <a:pt x="287" y="1105"/>
                  </a:lnTo>
                  <a:lnTo>
                    <a:pt x="275" y="1061"/>
                  </a:lnTo>
                  <a:lnTo>
                    <a:pt x="263" y="1017"/>
                  </a:lnTo>
                  <a:lnTo>
                    <a:pt x="252" y="972"/>
                  </a:lnTo>
                  <a:lnTo>
                    <a:pt x="243" y="927"/>
                  </a:lnTo>
                  <a:lnTo>
                    <a:pt x="234" y="881"/>
                  </a:lnTo>
                  <a:lnTo>
                    <a:pt x="227" y="836"/>
                  </a:lnTo>
                  <a:lnTo>
                    <a:pt x="220" y="790"/>
                  </a:lnTo>
                  <a:lnTo>
                    <a:pt x="214" y="744"/>
                  </a:lnTo>
                  <a:lnTo>
                    <a:pt x="208" y="698"/>
                  </a:lnTo>
                  <a:lnTo>
                    <a:pt x="203" y="652"/>
                  </a:lnTo>
                  <a:lnTo>
                    <a:pt x="200" y="605"/>
                  </a:lnTo>
                  <a:lnTo>
                    <a:pt x="196" y="559"/>
                  </a:lnTo>
                  <a:lnTo>
                    <a:pt x="193" y="512"/>
                  </a:lnTo>
                  <a:lnTo>
                    <a:pt x="191" y="466"/>
                  </a:lnTo>
                  <a:lnTo>
                    <a:pt x="188" y="419"/>
                  </a:lnTo>
                  <a:lnTo>
                    <a:pt x="186" y="372"/>
                  </a:lnTo>
                  <a:lnTo>
                    <a:pt x="185" y="325"/>
                  </a:lnTo>
                  <a:lnTo>
                    <a:pt x="183" y="278"/>
                  </a:lnTo>
                  <a:lnTo>
                    <a:pt x="182" y="232"/>
                  </a:lnTo>
                  <a:lnTo>
                    <a:pt x="181" y="185"/>
                  </a:lnTo>
                  <a:lnTo>
                    <a:pt x="179" y="139"/>
                  </a:lnTo>
                  <a:lnTo>
                    <a:pt x="178" y="92"/>
                  </a:lnTo>
                  <a:lnTo>
                    <a:pt x="177" y="46"/>
                  </a:lnTo>
                  <a:lnTo>
                    <a:pt x="175" y="0"/>
                  </a:lnTo>
                  <a:lnTo>
                    <a:pt x="837" y="652"/>
                  </a:lnTo>
                  <a:lnTo>
                    <a:pt x="1370" y="1026"/>
                  </a:lnTo>
                  <a:lnTo>
                    <a:pt x="1294" y="1116"/>
                  </a:lnTo>
                  <a:lnTo>
                    <a:pt x="1414" y="1234"/>
                  </a:lnTo>
                  <a:lnTo>
                    <a:pt x="688" y="1725"/>
                  </a:lnTo>
                  <a:lnTo>
                    <a:pt x="673" y="1711"/>
                  </a:lnTo>
                  <a:lnTo>
                    <a:pt x="657" y="1697"/>
                  </a:lnTo>
                  <a:lnTo>
                    <a:pt x="641" y="1682"/>
                  </a:lnTo>
                  <a:lnTo>
                    <a:pt x="625" y="1667"/>
                  </a:lnTo>
                  <a:lnTo>
                    <a:pt x="609" y="1652"/>
                  </a:lnTo>
                  <a:lnTo>
                    <a:pt x="593" y="1636"/>
                  </a:lnTo>
                  <a:lnTo>
                    <a:pt x="577" y="1619"/>
                  </a:lnTo>
                  <a:lnTo>
                    <a:pt x="561" y="1602"/>
                  </a:lnTo>
                  <a:lnTo>
                    <a:pt x="545" y="1585"/>
                  </a:lnTo>
                  <a:lnTo>
                    <a:pt x="529" y="1567"/>
                  </a:lnTo>
                  <a:lnTo>
                    <a:pt x="513" y="1548"/>
                  </a:lnTo>
                  <a:lnTo>
                    <a:pt x="498" y="1529"/>
                  </a:lnTo>
                  <a:lnTo>
                    <a:pt x="483" y="1509"/>
                  </a:lnTo>
                  <a:lnTo>
                    <a:pt x="468" y="1488"/>
                  </a:lnTo>
                  <a:lnTo>
                    <a:pt x="454" y="1467"/>
                  </a:lnTo>
                  <a:lnTo>
                    <a:pt x="440" y="1445"/>
                  </a:lnTo>
                  <a:close/>
                  <a:moveTo>
                    <a:pt x="0" y="2012"/>
                  </a:moveTo>
                  <a:lnTo>
                    <a:pt x="153" y="1854"/>
                  </a:lnTo>
                  <a:lnTo>
                    <a:pt x="117" y="1854"/>
                  </a:lnTo>
                  <a:lnTo>
                    <a:pt x="132" y="1833"/>
                  </a:lnTo>
                  <a:lnTo>
                    <a:pt x="147" y="1816"/>
                  </a:lnTo>
                  <a:lnTo>
                    <a:pt x="162" y="1801"/>
                  </a:lnTo>
                  <a:lnTo>
                    <a:pt x="177" y="1788"/>
                  </a:lnTo>
                  <a:lnTo>
                    <a:pt x="193" y="1777"/>
                  </a:lnTo>
                  <a:lnTo>
                    <a:pt x="209" y="1769"/>
                  </a:lnTo>
                  <a:lnTo>
                    <a:pt x="225" y="1763"/>
                  </a:lnTo>
                  <a:lnTo>
                    <a:pt x="241" y="1758"/>
                  </a:lnTo>
                  <a:lnTo>
                    <a:pt x="256" y="1754"/>
                  </a:lnTo>
                  <a:lnTo>
                    <a:pt x="273" y="1752"/>
                  </a:lnTo>
                  <a:lnTo>
                    <a:pt x="289" y="1751"/>
                  </a:lnTo>
                  <a:lnTo>
                    <a:pt x="306" y="1751"/>
                  </a:lnTo>
                  <a:lnTo>
                    <a:pt x="322" y="1752"/>
                  </a:lnTo>
                  <a:lnTo>
                    <a:pt x="339" y="1754"/>
                  </a:lnTo>
                  <a:lnTo>
                    <a:pt x="355" y="1755"/>
                  </a:lnTo>
                  <a:lnTo>
                    <a:pt x="372" y="1757"/>
                  </a:lnTo>
                  <a:lnTo>
                    <a:pt x="412" y="1775"/>
                  </a:lnTo>
                  <a:lnTo>
                    <a:pt x="423" y="1794"/>
                  </a:lnTo>
                  <a:lnTo>
                    <a:pt x="423" y="1811"/>
                  </a:lnTo>
                  <a:lnTo>
                    <a:pt x="227" y="2012"/>
                  </a:lnTo>
                  <a:lnTo>
                    <a:pt x="132" y="2012"/>
                  </a:lnTo>
                  <a:lnTo>
                    <a:pt x="284" y="1855"/>
                  </a:lnTo>
                  <a:lnTo>
                    <a:pt x="244" y="1855"/>
                  </a:lnTo>
                  <a:lnTo>
                    <a:pt x="93" y="2012"/>
                  </a:lnTo>
                  <a:lnTo>
                    <a:pt x="0" y="2012"/>
                  </a:lnTo>
                  <a:close/>
                  <a:moveTo>
                    <a:pt x="270" y="2009"/>
                  </a:moveTo>
                  <a:lnTo>
                    <a:pt x="452" y="1819"/>
                  </a:lnTo>
                  <a:lnTo>
                    <a:pt x="458" y="1804"/>
                  </a:lnTo>
                  <a:lnTo>
                    <a:pt x="457" y="1789"/>
                  </a:lnTo>
                  <a:lnTo>
                    <a:pt x="447" y="1779"/>
                  </a:lnTo>
                  <a:lnTo>
                    <a:pt x="468" y="1762"/>
                  </a:lnTo>
                  <a:lnTo>
                    <a:pt x="479" y="1759"/>
                  </a:lnTo>
                  <a:lnTo>
                    <a:pt x="490" y="1757"/>
                  </a:lnTo>
                  <a:lnTo>
                    <a:pt x="501" y="1754"/>
                  </a:lnTo>
                  <a:lnTo>
                    <a:pt x="512" y="1752"/>
                  </a:lnTo>
                  <a:lnTo>
                    <a:pt x="522" y="1750"/>
                  </a:lnTo>
                  <a:lnTo>
                    <a:pt x="533" y="1749"/>
                  </a:lnTo>
                  <a:lnTo>
                    <a:pt x="544" y="1748"/>
                  </a:lnTo>
                  <a:lnTo>
                    <a:pt x="555" y="1747"/>
                  </a:lnTo>
                  <a:lnTo>
                    <a:pt x="566" y="1748"/>
                  </a:lnTo>
                  <a:lnTo>
                    <a:pt x="577" y="1749"/>
                  </a:lnTo>
                  <a:lnTo>
                    <a:pt x="587" y="1751"/>
                  </a:lnTo>
                  <a:lnTo>
                    <a:pt x="598" y="1752"/>
                  </a:lnTo>
                  <a:lnTo>
                    <a:pt x="609" y="1755"/>
                  </a:lnTo>
                  <a:lnTo>
                    <a:pt x="619" y="1759"/>
                  </a:lnTo>
                  <a:lnTo>
                    <a:pt x="630" y="1764"/>
                  </a:lnTo>
                  <a:lnTo>
                    <a:pt x="640" y="1769"/>
                  </a:lnTo>
                  <a:lnTo>
                    <a:pt x="656" y="1789"/>
                  </a:lnTo>
                  <a:lnTo>
                    <a:pt x="656" y="1807"/>
                  </a:lnTo>
                  <a:lnTo>
                    <a:pt x="644" y="1824"/>
                  </a:lnTo>
                  <a:lnTo>
                    <a:pt x="460" y="2012"/>
                  </a:lnTo>
                  <a:lnTo>
                    <a:pt x="364" y="2012"/>
                  </a:lnTo>
                  <a:lnTo>
                    <a:pt x="425" y="1949"/>
                  </a:lnTo>
                  <a:lnTo>
                    <a:pt x="385" y="1949"/>
                  </a:lnTo>
                  <a:lnTo>
                    <a:pt x="326" y="2009"/>
                  </a:lnTo>
                  <a:lnTo>
                    <a:pt x="270" y="2009"/>
                  </a:lnTo>
                  <a:close/>
                  <a:moveTo>
                    <a:pt x="427" y="1900"/>
                  </a:moveTo>
                  <a:lnTo>
                    <a:pt x="472" y="1856"/>
                  </a:lnTo>
                  <a:lnTo>
                    <a:pt x="486" y="1851"/>
                  </a:lnTo>
                  <a:lnTo>
                    <a:pt x="502" y="1851"/>
                  </a:lnTo>
                  <a:lnTo>
                    <a:pt x="503" y="1863"/>
                  </a:lnTo>
                  <a:lnTo>
                    <a:pt x="463" y="1900"/>
                  </a:lnTo>
                  <a:lnTo>
                    <a:pt x="427" y="1900"/>
                  </a:lnTo>
                  <a:close/>
                  <a:moveTo>
                    <a:pt x="745" y="1999"/>
                  </a:moveTo>
                  <a:lnTo>
                    <a:pt x="711" y="1979"/>
                  </a:lnTo>
                  <a:lnTo>
                    <a:pt x="737" y="1973"/>
                  </a:lnTo>
                  <a:lnTo>
                    <a:pt x="763" y="1964"/>
                  </a:lnTo>
                  <a:lnTo>
                    <a:pt x="783" y="1950"/>
                  </a:lnTo>
                  <a:lnTo>
                    <a:pt x="792" y="1954"/>
                  </a:lnTo>
                  <a:lnTo>
                    <a:pt x="801" y="1957"/>
                  </a:lnTo>
                  <a:lnTo>
                    <a:pt x="808" y="1960"/>
                  </a:lnTo>
                  <a:lnTo>
                    <a:pt x="815" y="1962"/>
                  </a:lnTo>
                  <a:lnTo>
                    <a:pt x="823" y="1962"/>
                  </a:lnTo>
                  <a:lnTo>
                    <a:pt x="830" y="1963"/>
                  </a:lnTo>
                  <a:lnTo>
                    <a:pt x="838" y="1963"/>
                  </a:lnTo>
                  <a:lnTo>
                    <a:pt x="847" y="1962"/>
                  </a:lnTo>
                  <a:lnTo>
                    <a:pt x="864" y="1954"/>
                  </a:lnTo>
                  <a:lnTo>
                    <a:pt x="878" y="1940"/>
                  </a:lnTo>
                  <a:lnTo>
                    <a:pt x="851" y="1939"/>
                  </a:lnTo>
                  <a:lnTo>
                    <a:pt x="829" y="1934"/>
                  </a:lnTo>
                  <a:lnTo>
                    <a:pt x="810" y="1926"/>
                  </a:lnTo>
                  <a:lnTo>
                    <a:pt x="910" y="1811"/>
                  </a:lnTo>
                  <a:lnTo>
                    <a:pt x="918" y="1797"/>
                  </a:lnTo>
                  <a:lnTo>
                    <a:pt x="913" y="1780"/>
                  </a:lnTo>
                  <a:lnTo>
                    <a:pt x="900" y="1767"/>
                  </a:lnTo>
                  <a:lnTo>
                    <a:pt x="907" y="1757"/>
                  </a:lnTo>
                  <a:lnTo>
                    <a:pt x="924" y="1751"/>
                  </a:lnTo>
                  <a:lnTo>
                    <a:pt x="946" y="1747"/>
                  </a:lnTo>
                  <a:lnTo>
                    <a:pt x="972" y="1751"/>
                  </a:lnTo>
                  <a:lnTo>
                    <a:pt x="986" y="1762"/>
                  </a:lnTo>
                  <a:lnTo>
                    <a:pt x="987" y="1779"/>
                  </a:lnTo>
                  <a:lnTo>
                    <a:pt x="984" y="1789"/>
                  </a:lnTo>
                  <a:lnTo>
                    <a:pt x="887" y="1890"/>
                  </a:lnTo>
                  <a:lnTo>
                    <a:pt x="901" y="1892"/>
                  </a:lnTo>
                  <a:lnTo>
                    <a:pt x="919" y="1890"/>
                  </a:lnTo>
                  <a:lnTo>
                    <a:pt x="1046" y="1762"/>
                  </a:lnTo>
                  <a:lnTo>
                    <a:pt x="1062" y="1752"/>
                  </a:lnTo>
                  <a:lnTo>
                    <a:pt x="1091" y="1749"/>
                  </a:lnTo>
                  <a:lnTo>
                    <a:pt x="1114" y="1763"/>
                  </a:lnTo>
                  <a:lnTo>
                    <a:pt x="1121" y="1782"/>
                  </a:lnTo>
                  <a:lnTo>
                    <a:pt x="1119" y="1794"/>
                  </a:lnTo>
                  <a:lnTo>
                    <a:pt x="931" y="1991"/>
                  </a:lnTo>
                  <a:lnTo>
                    <a:pt x="921" y="1994"/>
                  </a:lnTo>
                  <a:lnTo>
                    <a:pt x="911" y="1998"/>
                  </a:lnTo>
                  <a:lnTo>
                    <a:pt x="902" y="2001"/>
                  </a:lnTo>
                  <a:lnTo>
                    <a:pt x="893" y="2004"/>
                  </a:lnTo>
                  <a:lnTo>
                    <a:pt x="883" y="2005"/>
                  </a:lnTo>
                  <a:lnTo>
                    <a:pt x="874" y="2007"/>
                  </a:lnTo>
                  <a:lnTo>
                    <a:pt x="865" y="2009"/>
                  </a:lnTo>
                  <a:lnTo>
                    <a:pt x="856" y="2010"/>
                  </a:lnTo>
                  <a:lnTo>
                    <a:pt x="847" y="2011"/>
                  </a:lnTo>
                  <a:lnTo>
                    <a:pt x="838" y="2012"/>
                  </a:lnTo>
                  <a:lnTo>
                    <a:pt x="829" y="2012"/>
                  </a:lnTo>
                  <a:lnTo>
                    <a:pt x="819" y="2012"/>
                  </a:lnTo>
                  <a:lnTo>
                    <a:pt x="810" y="2012"/>
                  </a:lnTo>
                  <a:lnTo>
                    <a:pt x="801" y="2012"/>
                  </a:lnTo>
                  <a:lnTo>
                    <a:pt x="792" y="2012"/>
                  </a:lnTo>
                  <a:lnTo>
                    <a:pt x="783" y="2012"/>
                  </a:lnTo>
                  <a:lnTo>
                    <a:pt x="745" y="1999"/>
                  </a:lnTo>
                  <a:close/>
                  <a:moveTo>
                    <a:pt x="1059" y="2012"/>
                  </a:moveTo>
                  <a:lnTo>
                    <a:pt x="1017" y="1998"/>
                  </a:lnTo>
                  <a:lnTo>
                    <a:pt x="992" y="1986"/>
                  </a:lnTo>
                  <a:lnTo>
                    <a:pt x="987" y="1973"/>
                  </a:lnTo>
                  <a:lnTo>
                    <a:pt x="1145" y="1804"/>
                  </a:lnTo>
                  <a:lnTo>
                    <a:pt x="1150" y="1782"/>
                  </a:lnTo>
                  <a:lnTo>
                    <a:pt x="1141" y="1767"/>
                  </a:lnTo>
                  <a:lnTo>
                    <a:pt x="1152" y="1763"/>
                  </a:lnTo>
                  <a:lnTo>
                    <a:pt x="1163" y="1760"/>
                  </a:lnTo>
                  <a:lnTo>
                    <a:pt x="1175" y="1757"/>
                  </a:lnTo>
                  <a:lnTo>
                    <a:pt x="1186" y="1754"/>
                  </a:lnTo>
                  <a:lnTo>
                    <a:pt x="1197" y="1752"/>
                  </a:lnTo>
                  <a:lnTo>
                    <a:pt x="1208" y="1750"/>
                  </a:lnTo>
                  <a:lnTo>
                    <a:pt x="1220" y="1749"/>
                  </a:lnTo>
                  <a:lnTo>
                    <a:pt x="1231" y="1748"/>
                  </a:lnTo>
                  <a:lnTo>
                    <a:pt x="1243" y="1748"/>
                  </a:lnTo>
                  <a:lnTo>
                    <a:pt x="1253" y="1748"/>
                  </a:lnTo>
                  <a:lnTo>
                    <a:pt x="1265" y="1749"/>
                  </a:lnTo>
                  <a:lnTo>
                    <a:pt x="1277" y="1751"/>
                  </a:lnTo>
                  <a:lnTo>
                    <a:pt x="1288" y="1754"/>
                  </a:lnTo>
                  <a:lnTo>
                    <a:pt x="1300" y="1757"/>
                  </a:lnTo>
                  <a:lnTo>
                    <a:pt x="1312" y="1762"/>
                  </a:lnTo>
                  <a:lnTo>
                    <a:pt x="1324" y="1767"/>
                  </a:lnTo>
                  <a:lnTo>
                    <a:pt x="1338" y="1782"/>
                  </a:lnTo>
                  <a:lnTo>
                    <a:pt x="1340" y="1802"/>
                  </a:lnTo>
                  <a:lnTo>
                    <a:pt x="1332" y="1818"/>
                  </a:lnTo>
                  <a:lnTo>
                    <a:pt x="1244" y="1905"/>
                  </a:lnTo>
                  <a:lnTo>
                    <a:pt x="1238" y="1868"/>
                  </a:lnTo>
                  <a:lnTo>
                    <a:pt x="1217" y="1854"/>
                  </a:lnTo>
                  <a:lnTo>
                    <a:pt x="1173" y="1847"/>
                  </a:lnTo>
                  <a:lnTo>
                    <a:pt x="1149" y="1858"/>
                  </a:lnTo>
                  <a:lnTo>
                    <a:pt x="1121" y="1882"/>
                  </a:lnTo>
                  <a:lnTo>
                    <a:pt x="1105" y="1914"/>
                  </a:lnTo>
                  <a:lnTo>
                    <a:pt x="1101" y="1949"/>
                  </a:lnTo>
                  <a:lnTo>
                    <a:pt x="1123" y="1964"/>
                  </a:lnTo>
                  <a:lnTo>
                    <a:pt x="1159" y="1977"/>
                  </a:lnTo>
                  <a:lnTo>
                    <a:pt x="1200" y="1973"/>
                  </a:lnTo>
                  <a:lnTo>
                    <a:pt x="1166" y="2001"/>
                  </a:lnTo>
                  <a:lnTo>
                    <a:pt x="1118" y="2013"/>
                  </a:lnTo>
                  <a:lnTo>
                    <a:pt x="1059" y="2012"/>
                  </a:lnTo>
                  <a:close/>
                  <a:moveTo>
                    <a:pt x="700" y="1904"/>
                  </a:moveTo>
                  <a:lnTo>
                    <a:pt x="682" y="1892"/>
                  </a:lnTo>
                  <a:lnTo>
                    <a:pt x="687" y="1870"/>
                  </a:lnTo>
                  <a:lnTo>
                    <a:pt x="700" y="1856"/>
                  </a:lnTo>
                  <a:lnTo>
                    <a:pt x="723" y="1846"/>
                  </a:lnTo>
                  <a:lnTo>
                    <a:pt x="745" y="1856"/>
                  </a:lnTo>
                  <a:lnTo>
                    <a:pt x="745" y="1874"/>
                  </a:lnTo>
                  <a:lnTo>
                    <a:pt x="725" y="1897"/>
                  </a:lnTo>
                  <a:lnTo>
                    <a:pt x="700" y="1904"/>
                  </a:lnTo>
                  <a:close/>
                  <a:moveTo>
                    <a:pt x="497" y="2012"/>
                  </a:moveTo>
                  <a:lnTo>
                    <a:pt x="678" y="1826"/>
                  </a:lnTo>
                  <a:lnTo>
                    <a:pt x="687" y="1811"/>
                  </a:lnTo>
                  <a:lnTo>
                    <a:pt x="688" y="1793"/>
                  </a:lnTo>
                  <a:lnTo>
                    <a:pt x="674" y="1775"/>
                  </a:lnTo>
                  <a:lnTo>
                    <a:pt x="697" y="1762"/>
                  </a:lnTo>
                  <a:lnTo>
                    <a:pt x="707" y="1759"/>
                  </a:lnTo>
                  <a:lnTo>
                    <a:pt x="718" y="1757"/>
                  </a:lnTo>
                  <a:lnTo>
                    <a:pt x="729" y="1754"/>
                  </a:lnTo>
                  <a:lnTo>
                    <a:pt x="739" y="1752"/>
                  </a:lnTo>
                  <a:lnTo>
                    <a:pt x="749" y="1750"/>
                  </a:lnTo>
                  <a:lnTo>
                    <a:pt x="760" y="1749"/>
                  </a:lnTo>
                  <a:lnTo>
                    <a:pt x="771" y="1748"/>
                  </a:lnTo>
                  <a:lnTo>
                    <a:pt x="781" y="1747"/>
                  </a:lnTo>
                  <a:lnTo>
                    <a:pt x="792" y="1748"/>
                  </a:lnTo>
                  <a:lnTo>
                    <a:pt x="802" y="1749"/>
                  </a:lnTo>
                  <a:lnTo>
                    <a:pt x="813" y="1751"/>
                  </a:lnTo>
                  <a:lnTo>
                    <a:pt x="823" y="1752"/>
                  </a:lnTo>
                  <a:lnTo>
                    <a:pt x="834" y="1755"/>
                  </a:lnTo>
                  <a:lnTo>
                    <a:pt x="844" y="1759"/>
                  </a:lnTo>
                  <a:lnTo>
                    <a:pt x="855" y="1764"/>
                  </a:lnTo>
                  <a:lnTo>
                    <a:pt x="865" y="1769"/>
                  </a:lnTo>
                  <a:lnTo>
                    <a:pt x="879" y="1787"/>
                  </a:lnTo>
                  <a:lnTo>
                    <a:pt x="883" y="1802"/>
                  </a:lnTo>
                  <a:lnTo>
                    <a:pt x="878" y="1811"/>
                  </a:lnTo>
                  <a:lnTo>
                    <a:pt x="760" y="1941"/>
                  </a:lnTo>
                  <a:lnTo>
                    <a:pt x="747" y="1948"/>
                  </a:lnTo>
                  <a:lnTo>
                    <a:pt x="735" y="1953"/>
                  </a:lnTo>
                  <a:lnTo>
                    <a:pt x="724" y="1957"/>
                  </a:lnTo>
                  <a:lnTo>
                    <a:pt x="714" y="1960"/>
                  </a:lnTo>
                  <a:lnTo>
                    <a:pt x="704" y="1962"/>
                  </a:lnTo>
                  <a:lnTo>
                    <a:pt x="694" y="1962"/>
                  </a:lnTo>
                  <a:lnTo>
                    <a:pt x="684" y="1963"/>
                  </a:lnTo>
                  <a:lnTo>
                    <a:pt x="675" y="1963"/>
                  </a:lnTo>
                  <a:lnTo>
                    <a:pt x="644" y="1952"/>
                  </a:lnTo>
                  <a:lnTo>
                    <a:pt x="633" y="1941"/>
                  </a:lnTo>
                  <a:lnTo>
                    <a:pt x="561" y="2012"/>
                  </a:lnTo>
                  <a:lnTo>
                    <a:pt x="497" y="2012"/>
                  </a:lnTo>
                  <a:close/>
                </a:path>
              </a:pathLst>
            </a:custGeom>
            <a:solidFill>
              <a:srgbClr val="28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8"/>
            <p:cNvSpPr/>
            <p:nvPr/>
          </p:nvSpPr>
          <p:spPr>
            <a:xfrm>
              <a:off x="7821720" y="517680"/>
              <a:ext cx="669960" cy="815760"/>
            </a:xfrm>
            <a:custGeom>
              <a:avLst/>
              <a:gdLst>
                <a:gd name="textAreaLeft" fmla="*/ 0 w 669960"/>
                <a:gd name="textAreaRight" fmla="*/ 670320 w 669960"/>
                <a:gd name="textAreaTop" fmla="*/ 0 h 815760"/>
                <a:gd name="textAreaBottom" fmla="*/ 816120 h 815760"/>
              </a:gdLst>
              <a:ahLst/>
              <a:rect l="textAreaLeft" t="textAreaTop" r="textAreaRight" b="textAreaBottom"/>
              <a:pathLst>
                <a:path w="1053" h="1287">
                  <a:moveTo>
                    <a:pt x="0" y="0"/>
                  </a:moveTo>
                  <a:lnTo>
                    <a:pt x="2" y="55"/>
                  </a:lnTo>
                  <a:lnTo>
                    <a:pt x="4" y="109"/>
                  </a:lnTo>
                  <a:lnTo>
                    <a:pt x="7" y="162"/>
                  </a:lnTo>
                  <a:lnTo>
                    <a:pt x="12" y="214"/>
                  </a:lnTo>
                  <a:lnTo>
                    <a:pt x="16" y="265"/>
                  </a:lnTo>
                  <a:lnTo>
                    <a:pt x="23" y="315"/>
                  </a:lnTo>
                  <a:lnTo>
                    <a:pt x="29" y="364"/>
                  </a:lnTo>
                  <a:lnTo>
                    <a:pt x="37" y="413"/>
                  </a:lnTo>
                  <a:lnTo>
                    <a:pt x="46" y="461"/>
                  </a:lnTo>
                  <a:lnTo>
                    <a:pt x="55" y="507"/>
                  </a:lnTo>
                  <a:lnTo>
                    <a:pt x="66" y="553"/>
                  </a:lnTo>
                  <a:lnTo>
                    <a:pt x="78" y="597"/>
                  </a:lnTo>
                  <a:lnTo>
                    <a:pt x="91" y="641"/>
                  </a:lnTo>
                  <a:lnTo>
                    <a:pt x="104" y="685"/>
                  </a:lnTo>
                  <a:lnTo>
                    <a:pt x="119" y="727"/>
                  </a:lnTo>
                  <a:lnTo>
                    <a:pt x="135" y="768"/>
                  </a:lnTo>
                  <a:lnTo>
                    <a:pt x="152" y="807"/>
                  </a:lnTo>
                  <a:lnTo>
                    <a:pt x="170" y="846"/>
                  </a:lnTo>
                  <a:lnTo>
                    <a:pt x="190" y="885"/>
                  </a:lnTo>
                  <a:lnTo>
                    <a:pt x="210" y="922"/>
                  </a:lnTo>
                  <a:lnTo>
                    <a:pt x="232" y="958"/>
                  </a:lnTo>
                  <a:lnTo>
                    <a:pt x="255" y="993"/>
                  </a:lnTo>
                  <a:lnTo>
                    <a:pt x="279" y="1027"/>
                  </a:lnTo>
                  <a:lnTo>
                    <a:pt x="304" y="1060"/>
                  </a:lnTo>
                  <a:lnTo>
                    <a:pt x="331" y="1092"/>
                  </a:lnTo>
                  <a:lnTo>
                    <a:pt x="360" y="1123"/>
                  </a:lnTo>
                  <a:lnTo>
                    <a:pt x="389" y="1153"/>
                  </a:lnTo>
                  <a:lnTo>
                    <a:pt x="419" y="1182"/>
                  </a:lnTo>
                  <a:lnTo>
                    <a:pt x="452" y="1210"/>
                  </a:lnTo>
                  <a:lnTo>
                    <a:pt x="485" y="1237"/>
                  </a:lnTo>
                  <a:lnTo>
                    <a:pt x="520" y="1262"/>
                  </a:lnTo>
                  <a:lnTo>
                    <a:pt x="556" y="1287"/>
                  </a:lnTo>
                  <a:lnTo>
                    <a:pt x="1053" y="7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4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Segoe Semibold"/>
              </a:rPr>
              <a:t>Click to edit the title text format</a:t>
            </a: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443160" indent="-443160">
              <a:lnSpc>
                <a:spcPct val="85000"/>
              </a:lnSpc>
              <a:spcBef>
                <a:spcPts val="11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1" marL="794880" indent="-35028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2" marL="1166040" indent="-36900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3" marL="1499040" indent="-33156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4" marL="1819440" indent="-30132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5" marL="1819440" indent="-30132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6" marL="1819440" indent="-30132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c5e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83AD0-AB51-4A40-B42E-D4A93F27C07B}" type="slidenum">
              <a:rPr b="0" lang="en-US" sz="1400" spc="-1" strike="noStrike">
                <a:solidFill>
                  <a:srgbClr val="bc5e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6DAB9-6D04-4CDF-A2BC-5864098261A5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1403280" y="404640"/>
            <a:ext cx="6623280" cy="10756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ccff99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Пояснительная запи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(форма 050316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324000" y="2000880"/>
            <a:ext cx="8635680" cy="31435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5400000"/>
          </a:gra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 Cyr"/>
              </a:rPr>
              <a:t>Формировать таблицы пояснительной записки целесообразно во взаимосвязи со спецификой деятельности</a:t>
            </a:r>
            <a:r>
              <a:rPr b="1" lang="en-US" sz="2000" spc="-1" strike="noStrike">
                <a:solidFill>
                  <a:srgbClr val="660066"/>
                </a:solidFill>
                <a:latin typeface="Arial Cyr"/>
              </a:rPr>
              <a:t> </a:t>
            </a:r>
            <a:r>
              <a:rPr b="1" lang="ru-RU" sz="2000" spc="-1" strike="noStrike">
                <a:solidFill>
                  <a:srgbClr val="660066"/>
                </a:solidFill>
                <a:latin typeface="Arial Cyr"/>
              </a:rPr>
              <a:t>конкретного  учреж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иказ Министерства финансов РФ №191н от 28.12.2010г. </a:t>
            </a:r>
            <a:r>
              <a:rPr b="1" i="1" lang="ru-RU" sz="2400" spc="-1" strike="noStrike">
                <a:solidFill>
                  <a:srgbClr val="28497a"/>
                </a:solidFill>
                <a:latin typeface="Arial"/>
              </a:rPr>
              <a:t>«О порядке составления и представления годовой, квартальной и месячной отчетности об исполнении бюджетов бюджетной системы Российской Федерац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32757-D690-4E36-9FAE-0828C65F92D6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0" y="-27000"/>
          <a:ext cx="9144000" cy="68850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885000"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7e993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30" name="Rectangle 154"/>
          <p:cNvSpPr/>
          <p:nvPr/>
        </p:nvSpPr>
        <p:spPr>
          <a:xfrm>
            <a:off x="182520" y="44280"/>
            <a:ext cx="8926560" cy="27972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f7e993"/>
              </a:gs>
              <a:gs pos="100000">
                <a:srgbClr val="cc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" bIns="180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                                </a:t>
            </a:r>
            <a:r>
              <a:rPr b="1" lang="ru-RU" sz="1600" spc="-1" strike="noStrike">
                <a:solidFill>
                  <a:srgbClr val="660066"/>
                </a:solidFill>
                <a:latin typeface="Times New Roman"/>
              </a:rPr>
              <a:t>Сведения</a:t>
            </a: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660066"/>
                </a:solidFill>
                <a:latin typeface="Times New Roman"/>
              </a:rPr>
              <a:t>о</a:t>
            </a: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660066"/>
                </a:solidFill>
                <a:latin typeface="Times New Roman"/>
              </a:rPr>
              <a:t>проведении</a:t>
            </a: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660066"/>
                </a:solidFill>
                <a:latin typeface="Times New Roman"/>
              </a:rPr>
              <a:t>инвентаризации</a:t>
            </a: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 (годовая)                 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Таблица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№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73080" y="1146240"/>
          <a:ext cx="9036000" cy="4817880"/>
        </p:xfrm>
        <a:graphic>
          <a:graphicData uri="http://schemas.openxmlformats.org/drawingml/2006/table">
            <a:tbl>
              <a:tblPr/>
              <a:tblGrid>
                <a:gridCol w="1290600"/>
                <a:gridCol w="1290600"/>
                <a:gridCol w="1289160"/>
                <a:gridCol w="1288800"/>
                <a:gridCol w="1292400"/>
                <a:gridCol w="1292040"/>
                <a:gridCol w="1292400"/>
              </a:tblGrid>
              <a:tr h="523080">
                <a:tc gridSpan="4"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Проведение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инвентар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Результат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инвентар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Меры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по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устранению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выявленных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расхожд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</a:tr>
              <a:tr h="279720">
                <a:tc rowSpan="2"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прич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 rowSpan="2"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д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а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 gridSpan="2"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Приказ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о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проведен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Код счета бюджетного уч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 rowSpan="2"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Сумма, ру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ном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да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972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</a:tr>
              <a:tr h="110196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Плановая годов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01.12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№ 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1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12.11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01010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Расхождений с данными бухгалтерского учета 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</a:tr>
              <a:tr h="155844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Плановая годов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01.12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№ 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1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12.11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01050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Недостача продуктов питания в пределах норм естественной убыли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Недостача списана на расходы учрежд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</a:tr>
              <a:tr h="110196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Плановая годов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01.12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№ 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1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12.11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020134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Расхождений с данными бухгалтерского учета 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CBADD-2858-49AC-808C-6FB7D508905B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34920" y="189360"/>
            <a:ext cx="9109080" cy="24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a50021"/>
                </a:solidFill>
                <a:latin typeface="Arial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a50021"/>
                </a:solidFill>
                <a:latin typeface="Arial"/>
                <a:ea typeface="Times New Roman"/>
              </a:rPr>
              <a:t>      </a:t>
            </a:r>
            <a:r>
              <a:rPr b="1" lang="ru-RU" sz="1400" spc="-1" strike="noStrike">
                <a:solidFill>
                  <a:srgbClr val="a50021"/>
                </a:solidFill>
                <a:latin typeface="Arial"/>
                <a:ea typeface="Times New Roman"/>
              </a:rPr>
              <a:t>Сведения о результатах внешних контрольных мероприятий</a:t>
            </a:r>
            <a:r>
              <a:rPr b="1" lang="ru-RU" sz="1400" spc="-1" strike="noStrike">
                <a:solidFill>
                  <a:srgbClr val="660066"/>
                </a:solidFill>
                <a:latin typeface="Arial"/>
                <a:ea typeface="Times New Roman"/>
              </a:rPr>
              <a:t>                       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Таблица №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08000" y="620640"/>
          <a:ext cx="8870760" cy="5313600"/>
        </p:xfrm>
        <a:graphic>
          <a:graphicData uri="http://schemas.openxmlformats.org/drawingml/2006/table">
            <a:tbl>
              <a:tblPr/>
              <a:tblGrid>
                <a:gridCol w="1081080"/>
                <a:gridCol w="1870200"/>
                <a:gridCol w="2087280"/>
                <a:gridCol w="2184480"/>
                <a:gridCol w="1647720"/>
              </a:tblGrid>
              <a:tr h="5007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ата провер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контрольного орга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Тема провер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Результаты  провер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Меры по результатам провер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11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03920"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.06.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.07.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о-ревизионное управлени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Целевое использование бюджетных сред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счет бюджетных средств отремонтирован автомобиль, поврежденный вследствие аварии по вине води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авлен Акт о нарушениях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85000"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Достоверность ведения бюджетного учета и составление бюджетной отчет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отражение операций, ведение регистров бюджетного учета) в соответствии с действующими на данный момент нормативно-правовыми акт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рушений не обнаруже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70520"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Соблюдение порядка работы с денежной наличностью и порядка ведения кассовых операци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рушений не обнаруже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9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BD699-4EA7-4DDA-B093-1CCC5DF74A5F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377" descr=""/>
          <p:cNvPicPr/>
          <p:nvPr/>
        </p:nvPicPr>
        <p:blipFill>
          <a:blip r:embed="rId1"/>
          <a:stretch/>
        </p:blipFill>
        <p:spPr>
          <a:xfrm>
            <a:off x="34920" y="907920"/>
            <a:ext cx="8856720" cy="53103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3"/>
          <p:cNvSpPr/>
          <p:nvPr/>
        </p:nvSpPr>
        <p:spPr>
          <a:xfrm>
            <a:off x="34920" y="981000"/>
            <a:ext cx="8964720" cy="936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2378"/>
          <p:cNvSpPr/>
          <p:nvPr/>
        </p:nvSpPr>
        <p:spPr>
          <a:xfrm>
            <a:off x="179280" y="3500280"/>
            <a:ext cx="3589560" cy="649440"/>
          </a:xfrm>
          <a:prstGeom prst="wedgeRoundRectCallout">
            <a:avLst>
              <a:gd name="adj1" fmla="val 41157"/>
              <a:gd name="adj2" fmla="val -20036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Бюджетные учре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(смета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2379"/>
          <p:cNvSpPr/>
          <p:nvPr/>
        </p:nvSpPr>
        <p:spPr>
          <a:xfrm>
            <a:off x="4427640" y="3645000"/>
            <a:ext cx="3878280" cy="576000"/>
          </a:xfrm>
          <a:prstGeom prst="wedgeRoundRectCallout">
            <a:avLst>
              <a:gd name="adj1" fmla="val -41361"/>
              <a:gd name="adj2" fmla="val -24889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Бюджетные учре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(получатели субсидий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71280" y="44280"/>
          <a:ext cx="8964720" cy="392400"/>
        </p:xfrm>
        <a:graphic>
          <a:graphicData uri="http://schemas.openxmlformats.org/drawingml/2006/table">
            <a:tbl>
              <a:tblPr/>
              <a:tblGrid>
                <a:gridCol w="7740720"/>
                <a:gridCol w="1224000"/>
              </a:tblGrid>
              <a:tr h="3924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формы по ОКУ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5031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1" name="Rectangle 73"/>
          <p:cNvSpPr/>
          <p:nvPr/>
        </p:nvSpPr>
        <p:spPr>
          <a:xfrm>
            <a:off x="108000" y="671040"/>
            <a:ext cx="8785080" cy="31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  <a:ea typeface="Times New Roman"/>
              </a:rPr>
              <a:t>Сведения о количестве подведомственных учрежд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19"/>
          <p:cNvSpPr/>
          <p:nvPr/>
        </p:nvSpPr>
        <p:spPr>
          <a:xfrm>
            <a:off x="2286000" y="542592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Заполняется главным распорядителем (распорядителем)  бюджетных средс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95A50-DEF1-4D76-8FA4-0B366AEF81AC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433440" y="44280"/>
          <a:ext cx="8386560" cy="270000"/>
        </p:xfrm>
        <a:graphic>
          <a:graphicData uri="http://schemas.openxmlformats.org/drawingml/2006/table">
            <a:tbl>
              <a:tblPr/>
              <a:tblGrid>
                <a:gridCol w="7243560"/>
                <a:gridCol w="1143000"/>
              </a:tblGrid>
              <a:tr h="2700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   </a:t>
                      </a: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формы по ОКУ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5031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5" name="Rectangle 11"/>
          <p:cNvSpPr/>
          <p:nvPr/>
        </p:nvSpPr>
        <p:spPr>
          <a:xfrm>
            <a:off x="2268360" y="374760"/>
            <a:ext cx="4535640" cy="27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Arial"/>
                <a:ea typeface="Times New Roman"/>
              </a:rPr>
              <a:t>Сведения о результатах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2"/>
          <p:cNvSpPr/>
          <p:nvPr/>
        </p:nvSpPr>
        <p:spPr>
          <a:xfrm>
            <a:off x="2452680" y="3571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-18000" bIns="-180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8000" y="717480"/>
          <a:ext cx="9036000" cy="1590840"/>
        </p:xfrm>
        <a:graphic>
          <a:graphicData uri="http://schemas.openxmlformats.org/drawingml/2006/table">
            <a:tbl>
              <a:tblPr/>
              <a:tblGrid>
                <a:gridCol w="1522440"/>
                <a:gridCol w="1305000"/>
                <a:gridCol w="765000"/>
                <a:gridCol w="1546200"/>
                <a:gridCol w="1198440"/>
                <a:gridCol w="1497240"/>
                <a:gridCol w="1201680"/>
              </a:tblGrid>
              <a:tr h="345960"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раздела, подраздела расходов по Б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Единица измер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                         </a:t>
                      </a: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о плану                                   Фактически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количе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Сумма,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количе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Сумма,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7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Ит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8" name="Text Box 301"/>
          <p:cNvSpPr/>
          <p:nvPr/>
        </p:nvSpPr>
        <p:spPr>
          <a:xfrm>
            <a:off x="0" y="2471760"/>
            <a:ext cx="9144000" cy="45136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ccff99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18000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ля  заполнения таблицы потребуется участие отраслевых специалистов: планового отдела, отдела экономического анализа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Arial"/>
              </a:rPr>
              <a:t>В таблице необходимо отразить количественно-качественные (статистические) показатели результативности деятельности учреждения в разрезе плановых и фактических показателей в натуральном и стоимостном выражен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600" spc="-1" strike="noStrike">
                <a:solidFill>
                  <a:srgbClr val="a50021"/>
                </a:solidFill>
                <a:latin typeface="Arial"/>
              </a:rPr>
              <a:t>Например: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количество посещений; количество  вызовов на дом; количество койко-дней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казатели формы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0503162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длежат консолидации, поэтому перечень показателей должен быть определен главным распорядителем бюджетных средств и доведен до всех подведомственных учрежде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Если субъекту бюджетной отчетности, не установлены в соответствующем порядке показатели результативности деятельности, то информация о результатах деятельности раскрывается в текстовой части раздела 2 Пояснительной записки. Кроме того,  необходимо представить в тексте пояснительной записки информацию о мерах по повышению квалификации и переподготовке специалистов; о ресурсах (численность работников, стоимость имущества, бюджетные расходы, объемы закупок и т.п.), используемых  для достижения показателей результатив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57EBF-D567-4238-88E7-A03FE6A76166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22120" y="115920"/>
          <a:ext cx="8813880" cy="243000"/>
        </p:xfrm>
        <a:graphic>
          <a:graphicData uri="http://schemas.openxmlformats.org/drawingml/2006/table">
            <a:tbl>
              <a:tblPr/>
              <a:tblGrid>
                <a:gridCol w="7612200"/>
                <a:gridCol w="1201680"/>
              </a:tblGrid>
              <a:tr h="2430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формы по ОКУ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5031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1" name="Rectangle 11"/>
          <p:cNvSpPr/>
          <p:nvPr/>
        </p:nvSpPr>
        <p:spPr>
          <a:xfrm>
            <a:off x="0" y="368280"/>
            <a:ext cx="9144000" cy="67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660066"/>
                </a:solidFill>
                <a:latin typeface="Arial"/>
                <a:ea typeface="Times New Roman"/>
              </a:rPr>
              <a:t>Сведения об изменениях бюджетной роспис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660066"/>
                </a:solidFill>
                <a:latin typeface="Arial"/>
                <a:ea typeface="Times New Roman"/>
              </a:rPr>
              <a:t>главного распорядителя бюджетных  средств, главного администратора источников финансирования дефицита бюджет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4920" y="1069920"/>
          <a:ext cx="9109080" cy="3295800"/>
        </p:xfrm>
        <a:graphic>
          <a:graphicData uri="http://schemas.openxmlformats.org/drawingml/2006/table">
            <a:tbl>
              <a:tblPr/>
              <a:tblGrid>
                <a:gridCol w="1811520"/>
                <a:gridCol w="1717560"/>
                <a:gridCol w="1655640"/>
                <a:gridCol w="2208240"/>
                <a:gridCol w="1716120"/>
              </a:tblGrid>
              <a:tr h="217440"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раздела, подраздела расходов, группы, подгруппы источников финансирования дефицита бюджета  по Б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тверждено на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Разница между показателями бюджетной росписи и закона (решения) о бюджете, 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ричины отклон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8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Закон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(решением) о бюджете,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Бюджетной росписью, с учетом изменений на отчетную дату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744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Segoe Semibold"/>
                        </a:rPr>
                        <a:t>Ит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3" name="Text Box 99"/>
          <p:cNvSpPr/>
          <p:nvPr/>
        </p:nvSpPr>
        <p:spPr>
          <a:xfrm>
            <a:off x="0" y="4427640"/>
            <a:ext cx="9144000" cy="23720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ccff99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Заполняетс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реждениями -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главными распорядителями бюджетных средств,  главными администраторами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форме необходимо отразить обобщенные за отчетный период данные об изменениях в бюджетной росписи, объемы внесенных изменений и причины внесений изменений в бюджетные назначения по расходам за отчетный пери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В графе 5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указываются причины внесенных уточнений со ссылкой на правовые основания их внесения (статьи Бюджетного кодекса Российской Федерации и закона (решения) о соответствующем бюджете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9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C8012-821A-4094-9A54-30E4B99096F8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8785440" cy="590868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4"/>
          <p:cNvSpPr/>
          <p:nvPr/>
        </p:nvSpPr>
        <p:spPr>
          <a:xfrm>
            <a:off x="0" y="5084640"/>
            <a:ext cx="9144000" cy="180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5"/>
          <p:cNvSpPr/>
          <p:nvPr/>
        </p:nvSpPr>
        <p:spPr>
          <a:xfrm>
            <a:off x="4338720" y="2852640"/>
            <a:ext cx="2374920" cy="765360"/>
          </a:xfrm>
          <a:prstGeom prst="wedgeRoundRectCallout">
            <a:avLst>
              <a:gd name="adj1" fmla="val -100685"/>
              <a:gd name="adj2" fmla="val -12717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ходы </a:t>
            </a: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(</a:t>
            </a:r>
            <a:r>
              <a:rPr b="0" lang="ru-RU" sz="1600" spc="-1" strike="noStrike" u="sng">
                <a:solidFill>
                  <a:srgbClr val="cc0000"/>
                </a:solidFill>
                <a:uFillTx/>
                <a:latin typeface="Arial"/>
              </a:rPr>
              <a:t>прогнозные показатели</a:t>
            </a: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1"/>
          <p:cNvSpPr/>
          <p:nvPr/>
        </p:nvSpPr>
        <p:spPr>
          <a:xfrm>
            <a:off x="0" y="28800"/>
            <a:ext cx="9144000" cy="62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д формы по ОКУД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05031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0000"/>
              </a:buClr>
              <a:buFont typeface="Segoe Semi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6A9CF-7BB0-47E8-AB93-206954B34AEB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-36360" y="-18720"/>
            <a:ext cx="9144000" cy="71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ложение (ф. 0503164) формируется путем обобщения данных по исполнению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лучателе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редств бюджета,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администратором поступлений в бюдж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на основании показателей Отчета (ф. 0503127), сформированного на отчетную дат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главным распорядителе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распорядителем) средств бюджета - на основании показателей консолидированного Отчета (ф. 0503127), сформированного на отчетную дат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рганом, организующим исполнение бюдже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на основании показателей Отчета (ф. 0503117), сформированного на отчетную дат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ериодичн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едставления –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квартальная, годов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 строкам  010, 200, 450, 500, 520,62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отражаются показатели из аналогичных строк Отчета (ф. 0503127), консолидированного Отчета (ф. 0503127) и Отчета (ф.0503117). При этом графы 5,6 по строке 450 не заполняю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 графе 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указываются коды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бюджетной классификации, по которым в результате исполнения бюджета на отчетную дату  имеются отклонения между плановыми и фактическими показателями, в соответствии с разделами прилож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показателям не содержащим плановые назначения форма не заполня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азделе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«Доходы бюджета» 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разрезе групп, подгрупп, статьи, подстатьи классификации доходов бюджет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3854A-9173-421F-AF7F-707E3A78762A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0" y="287280"/>
            <a:ext cx="9144000" cy="63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в разделе «Расходы бюджета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в разрезе разделов, подразделов, целевой статьи функциональной классификации расходов бюджет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в разделе «Источники финансирования дефицитов бюджетов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 разрезе групп, подгрупп, статьи, подстатьи источников финансирования дефицитов бюдже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В графе 3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указываются соответственно по разделам приложения годовые объемы бюджетных назначений, утвержденных уточненной бюджетной росписью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(получателями средств бюджета –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годовые объемы утвержденных лимитов бюджетных обязательств, с учетом их уточнения): по доходам бюджетов, расходам бюджетов, источникам финансирования дефицитов бюдже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В графе 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указываются соответственно по разделам приложения суммы исполненных бюджетных назначений: по доходам бюджетов, расходам бюджетов, источникам финансирования дефицитов бюдже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В графе 5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указывается соответственно по разделам приложения разница между данными графы 3 и графы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В графе 6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указываются причины отклонений отраженные в графе 5 приложения. Например: отсутствие необходимых нормативных документов, определяющих порядок выделения и (или) использования средств бюджетов; блокировка расходов (с указанием причины); возникновение курсовой разницы; сезонность отдельных видов расходов; недоведение (несвоевременное доведение) лимитов бюджетных обязательств (с указанием причины); изменение графика платежей по обязательствам; несвоевременность представления исполнителями работ документов для окончательного расчета; длительность сроков заключения государственных контрактов; необходимость резервирования денежных средств для обеспечения выполнения возложенных функций; прочие причины  (указать какие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FF999-1172-4C0B-9308-BA16B4DE3BBC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50840" y="79200"/>
          <a:ext cx="8813880" cy="270000"/>
        </p:xfrm>
        <a:graphic>
          <a:graphicData uri="http://schemas.openxmlformats.org/drawingml/2006/table">
            <a:tbl>
              <a:tblPr/>
              <a:tblGrid>
                <a:gridCol w="7612200"/>
                <a:gridCol w="1201680"/>
              </a:tblGrid>
              <a:tr h="2700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          </a:t>
                      </a: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формы по ОКУ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5031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5" name="Rectangle 11"/>
          <p:cNvSpPr/>
          <p:nvPr/>
        </p:nvSpPr>
        <p:spPr>
          <a:xfrm>
            <a:off x="395280" y="404640"/>
            <a:ext cx="8280360" cy="27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Arial"/>
                <a:ea typeface="Times New Roman"/>
              </a:rPr>
              <a:t>Сведения об исполнении мероприятий в рамках целевых програм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4920" y="765000"/>
          <a:ext cx="8993160" cy="2738520"/>
        </p:xfrm>
        <a:graphic>
          <a:graphicData uri="http://schemas.openxmlformats.org/drawingml/2006/table">
            <a:tbl>
              <a:tblPr/>
              <a:tblGrid>
                <a:gridCol w="1555920"/>
                <a:gridCol w="1315800"/>
                <a:gridCol w="2386080"/>
                <a:gridCol w="1224000"/>
                <a:gridCol w="1079640"/>
                <a:gridCol w="1431720"/>
              </a:tblGrid>
              <a:tr h="112284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программы, подпрограм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целевой статьи расходов по Б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Наименование меропри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тверждено бюджетной росписью с учетом изменений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Исполнено,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Причины отклон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92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" name="Text Box 88"/>
          <p:cNvSpPr/>
          <p:nvPr/>
        </p:nvSpPr>
        <p:spPr>
          <a:xfrm>
            <a:off x="0" y="3443400"/>
            <a:ext cx="9144000" cy="32922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ccff99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олняется учреждениями, которым выделяются средства в рамках целевых программ.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 графе 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ледует указать наименование программы (подпрограммы), в которой участвует учреждение,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 графе 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указывается код целевой статьи расходов бюджетов,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 графе 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перечень мероприятий, обеспечивающих реализацию программы,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 графе 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указывается объем средств , утвержденный уточненной бюджетной росписью, на реализацию мероприятий в рамках целевых программ.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 графе 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казывается сумма исполненных бюджетных назначений,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 графе 6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указываются причины отклонений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между графами 4 и 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 отчетную да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50339-C034-4B17-BCB5-86525339C251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08000" y="260280"/>
          <a:ext cx="8856720" cy="243000"/>
        </p:xfrm>
        <a:graphic>
          <a:graphicData uri="http://schemas.openxmlformats.org/drawingml/2006/table">
            <a:tbl>
              <a:tblPr/>
              <a:tblGrid>
                <a:gridCol w="7648560"/>
                <a:gridCol w="1208160"/>
              </a:tblGrid>
              <a:tr h="2430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            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формы по ОКУ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5031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0" name="Rectangle 11"/>
          <p:cNvSpPr/>
          <p:nvPr/>
        </p:nvSpPr>
        <p:spPr>
          <a:xfrm>
            <a:off x="1476360" y="691920"/>
            <a:ext cx="6624720" cy="31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  <a:ea typeface="Times New Roman"/>
              </a:rPr>
              <a:t>Сведения о целевых иностранных кредит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0" y="1150920"/>
          <a:ext cx="9144000" cy="4903920"/>
        </p:xfrm>
        <a:graphic>
          <a:graphicData uri="http://schemas.openxmlformats.org/drawingml/2006/table">
            <a:tbl>
              <a:tblPr/>
              <a:tblGrid>
                <a:gridCol w="1758960"/>
                <a:gridCol w="685800"/>
                <a:gridCol w="719280"/>
                <a:gridCol w="1792080"/>
                <a:gridCol w="2427480"/>
                <a:gridCol w="1760400"/>
              </a:tblGrid>
              <a:tr h="345960"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кредито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Соглашение о кредит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Цель использования заемных 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Утверждено бюджетной росписью с учетом изменений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Сумма использованного кредита,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а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оме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11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629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Европейский банк реконструкции и развития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Строительство автомобильной дороги «Амур» Чита-Хабаровс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54 230 0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 зай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м 693 – км 9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6 171 6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964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 зай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м 483 – км 596 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м 943 – км 1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48 058 4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62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Софинансирование из ФБ (НДС)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7 719 2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 зай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 111 1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 зай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6 608 0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ИТ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81 949 2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 зай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7 282 794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 зай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74 666 4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71B79-88A1-4EB7-A603-EF6B08DE4A8C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71280" y="44280"/>
          <a:ext cx="8964720" cy="1451160"/>
        </p:xfrm>
        <a:graphic>
          <a:graphicData uri="http://schemas.openxmlformats.org/drawingml/2006/table">
            <a:tbl>
              <a:tblPr/>
              <a:tblGrid>
                <a:gridCol w="6739200"/>
                <a:gridCol w="1252440"/>
                <a:gridCol w="973080"/>
              </a:tblGrid>
              <a:tr h="188640"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060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Форма по ОКУ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05031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09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                                                             </a:t>
                      </a: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 1 января  2012 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а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06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чреждение _____________________________________________________________________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о ОКП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06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бюджета ____________________________________________________________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09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ериодичность: квартальная, годов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88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Единица измерения: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о ОКЕ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4" name="Rectangle 42"/>
          <p:cNvSpPr/>
          <p:nvPr/>
        </p:nvSpPr>
        <p:spPr>
          <a:xfrm>
            <a:off x="71280" y="2670120"/>
            <a:ext cx="34920" cy="18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1280" y="1628640"/>
          <a:ext cx="8964720" cy="5108760"/>
        </p:xfrm>
        <a:graphic>
          <a:graphicData uri="http://schemas.openxmlformats.org/drawingml/2006/table">
            <a:tbl>
              <a:tblPr/>
              <a:tblGrid>
                <a:gridCol w="8964720"/>
              </a:tblGrid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6" name="Rectangle 4"/>
          <p:cNvSpPr/>
          <p:nvPr/>
        </p:nvSpPr>
        <p:spPr>
          <a:xfrm>
            <a:off x="3518280" y="115200"/>
            <a:ext cx="1857960" cy="18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000" spc="-1" strike="noStrike">
                <a:solidFill>
                  <a:srgbClr val="660066"/>
                </a:solidFill>
                <a:latin typeface="Arial"/>
                <a:ea typeface="Times New Roman"/>
              </a:rPr>
              <a:t>ПОЯСНИТЕЛЬНАЯ ЗАПИС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5A150-1B7F-4736-9C3C-A2F9C7E5F2B0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B6278-782B-4FAC-A2BC-BF42802D6709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144000" cy="6669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7F92B-EEC5-4B49-AB33-2A826B8635B3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250920" y="115920"/>
          <a:ext cx="8712000" cy="6038640"/>
        </p:xfrm>
        <a:graphic>
          <a:graphicData uri="http://schemas.openxmlformats.org/drawingml/2006/table">
            <a:tbl>
              <a:tblPr/>
              <a:tblGrid>
                <a:gridCol w="1666800"/>
                <a:gridCol w="797040"/>
                <a:gridCol w="1149120"/>
                <a:gridCol w="1297080"/>
                <a:gridCol w="1100160"/>
                <a:gridCol w="1386000"/>
                <a:gridCol w="1315800"/>
              </a:tblGrid>
              <a:tr h="633240"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д формы по ОКУ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5031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 gridSpan="4"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ведения по дебиторской и кредиторской задолжен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960"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ид 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(бюджетная, приносящая доход деятельность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ид задолж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(дебиторская, кредиторска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960"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 gridSpan="2"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омер (код) сч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бюджетного уч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умма задолженности всего,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 том числе просроченная (нереальная к взысканию) задолжен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800"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умма,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год возникнов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аименование дебитора (кредитор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ичина 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 gridSpan="2"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Итого п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ду сч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D6C86-8ABB-4247-95A6-A13A1E9713FD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0840" y="115920"/>
          <a:ext cx="8813880" cy="270000"/>
        </p:xfrm>
        <a:graphic>
          <a:graphicData uri="http://schemas.openxmlformats.org/drawingml/2006/table">
            <a:tbl>
              <a:tblPr/>
              <a:tblGrid>
                <a:gridCol w="7612200"/>
                <a:gridCol w="1201680"/>
              </a:tblGrid>
              <a:tr h="2700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       </a:t>
                      </a: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формы по ОКУ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5031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0" name="Rectangle 11"/>
          <p:cNvSpPr/>
          <p:nvPr/>
        </p:nvSpPr>
        <p:spPr>
          <a:xfrm>
            <a:off x="468360" y="549000"/>
            <a:ext cx="8280360" cy="31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  <a:ea typeface="Times New Roman"/>
              </a:rPr>
              <a:t>Сведения о финансовых вложениях получателя средств бюдж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08000" y="1052640"/>
          <a:ext cx="8964720" cy="3968640"/>
        </p:xfrm>
        <a:graphic>
          <a:graphicData uri="http://schemas.openxmlformats.org/drawingml/2006/table">
            <a:tbl>
              <a:tblPr/>
              <a:tblGrid>
                <a:gridCol w="1603440"/>
                <a:gridCol w="1141200"/>
                <a:gridCol w="2689200"/>
                <a:gridCol w="1765440"/>
                <a:gridCol w="1765440"/>
              </a:tblGrid>
              <a:tr h="786960"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омер сч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бюджетного уч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Сумма,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ид финансового влож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Документ-основание наличия влож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4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ном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да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92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0066"/>
                          </a:solidFill>
                          <a:latin typeface="Segoe Semibold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0066"/>
                          </a:solidFill>
                          <a:latin typeface="Segoe Semibold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0066"/>
                          </a:solidFill>
                          <a:latin typeface="Segoe Semibold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9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F409A-EC6B-4D0B-8274-BE836F7B77B9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001080" cy="363564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6"/>
          <p:cNvSpPr/>
          <p:nvPr/>
        </p:nvSpPr>
        <p:spPr>
          <a:xfrm>
            <a:off x="5076720" y="5273640"/>
            <a:ext cx="3888000" cy="963720"/>
          </a:xfrm>
          <a:prstGeom prst="wedgeRoundRectCallout">
            <a:avLst>
              <a:gd name="adj1" fmla="val -117365"/>
              <a:gd name="adj2" fmla="val -215722"/>
              <a:gd name="adj3" fmla="val 16667"/>
            </a:avLst>
          </a:prstGeom>
          <a:solidFill>
            <a:srgbClr val="bbe0e3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умма задолженности, без учета начисленных процентов, пеней и штраф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9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79F4C-AD90-4849-A711-8764F1572501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108000" y="1135080"/>
            <a:ext cx="9001080" cy="45180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3"/>
          <p:cNvSpPr/>
          <p:nvPr/>
        </p:nvSpPr>
        <p:spPr>
          <a:xfrm>
            <a:off x="2297520" y="166680"/>
            <a:ext cx="59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едения об изменении остатков валюты балан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ф. 050317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4"/>
          <p:cNvSpPr/>
          <p:nvPr/>
        </p:nvSpPr>
        <p:spPr>
          <a:xfrm>
            <a:off x="5802480" y="-81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5"/>
          <p:cNvSpPr/>
          <p:nvPr/>
        </p:nvSpPr>
        <p:spPr>
          <a:xfrm>
            <a:off x="5802480" y="-81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6"/>
          <p:cNvSpPr/>
          <p:nvPr/>
        </p:nvSpPr>
        <p:spPr>
          <a:xfrm>
            <a:off x="5802480" y="-81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7"/>
          <p:cNvSpPr/>
          <p:nvPr/>
        </p:nvSpPr>
        <p:spPr>
          <a:xfrm>
            <a:off x="5802480" y="-81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8"/>
          <p:cNvSpPr/>
          <p:nvPr/>
        </p:nvSpPr>
        <p:spPr>
          <a:xfrm>
            <a:off x="5802480" y="-81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9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4547D-97C3-40BE-B182-A18765CF0573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84200" y="-360"/>
            <a:ext cx="8444160" cy="80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4000"/>
              </a:srgbClr>
            </a:outerShdw>
          </a:effectLst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Segoe Semibold"/>
              </a:rPr>
              <a:t>Сведения ф. 0503173</a:t>
            </a:r>
            <a:endParaRPr b="0" lang="en-US" sz="3000" spc="-1" strike="noStrike">
              <a:solidFill>
                <a:srgbClr val="ffb601"/>
              </a:solidFill>
              <a:latin typeface="Segoe Semibold"/>
            </a:endParaRPr>
          </a:p>
        </p:txBody>
      </p:sp>
      <p:pic>
        <p:nvPicPr>
          <p:cNvPr id="195" name="Picture 3" descr=""/>
          <p:cNvPicPr/>
          <p:nvPr/>
        </p:nvPicPr>
        <p:blipFill>
          <a:blip r:embed="rId1"/>
          <a:stretch/>
        </p:blipFill>
        <p:spPr>
          <a:xfrm>
            <a:off x="476280" y="1042920"/>
            <a:ext cx="8443800" cy="529452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4"/>
          <p:cNvSpPr/>
          <p:nvPr/>
        </p:nvSpPr>
        <p:spPr>
          <a:xfrm>
            <a:off x="233280" y="1673280"/>
            <a:ext cx="3240000" cy="47530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9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5FA91-79CE-40D9-9726-14358032747F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254160" y="476280"/>
            <a:ext cx="8710560" cy="52354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9640" y="87480"/>
            <a:ext cx="8444160" cy="387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4000"/>
              </a:srgbClr>
            </a:outerShdw>
          </a:effectLst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Segoe Semibold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Segoe Semibold"/>
              </a:rPr>
              <a:t>ф. 0503176</a:t>
            </a:r>
            <a:endParaRPr b="0" lang="en-US" sz="2400" spc="-1" strike="noStrike">
              <a:solidFill>
                <a:srgbClr val="ffb601"/>
              </a:solidFill>
              <a:latin typeface="Segoe Semibold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9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Номер слайда 3"/>
          <p:cNvSpPr/>
          <p:nvPr/>
        </p:nvSpPr>
        <p:spPr>
          <a:xfrm>
            <a:off x="613872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A9787-973C-4977-8AF5-2842B30F2E9A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8569440" cy="5295960"/>
          </a:xfrm>
          <a:prstGeom prst="rect">
            <a:avLst/>
          </a:prstGeom>
          <a:ln w="0">
            <a:noFill/>
          </a:ln>
        </p:spPr>
      </p:pic>
      <p:sp>
        <p:nvSpPr>
          <p:cNvPr id="202" name="Line 4"/>
          <p:cNvSpPr/>
          <p:nvPr/>
        </p:nvSpPr>
        <p:spPr>
          <a:xfrm>
            <a:off x="6432480" y="-352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5"/>
          <p:cNvSpPr/>
          <p:nvPr/>
        </p:nvSpPr>
        <p:spPr>
          <a:xfrm>
            <a:off x="6432480" y="-352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6"/>
          <p:cNvSpPr/>
          <p:nvPr/>
        </p:nvSpPr>
        <p:spPr>
          <a:xfrm>
            <a:off x="6432480" y="-352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7"/>
          <p:cNvSpPr/>
          <p:nvPr/>
        </p:nvSpPr>
        <p:spPr>
          <a:xfrm>
            <a:off x="6432480" y="-352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8"/>
          <p:cNvSpPr/>
          <p:nvPr/>
        </p:nvSpPr>
        <p:spPr>
          <a:xfrm>
            <a:off x="6432480" y="-352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9"/>
          <p:cNvSpPr/>
          <p:nvPr/>
        </p:nvSpPr>
        <p:spPr>
          <a:xfrm>
            <a:off x="5076720" y="4626000"/>
            <a:ext cx="3888000" cy="1251000"/>
          </a:xfrm>
          <a:prstGeom prst="wedgeRoundRectCallout">
            <a:avLst>
              <a:gd name="adj1" fmla="val -34481"/>
              <a:gd name="adj2" fmla="val -5031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тализация основных направлений произведенных расходов + 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детализация по КБК (по решению ФО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22120" y="44280"/>
          <a:ext cx="8813880" cy="279720"/>
        </p:xfrm>
        <a:graphic>
          <a:graphicData uri="http://schemas.openxmlformats.org/drawingml/2006/table">
            <a:tbl>
              <a:tblPr/>
              <a:tblGrid>
                <a:gridCol w="7612200"/>
                <a:gridCol w="1201680"/>
              </a:tblGrid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                                                                                                                            </a:t>
                      </a:r>
                      <a:r>
                        <a:rPr b="0" lang="ru-RU" sz="12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Код</a:t>
                      </a:r>
                      <a:r>
                        <a:rPr b="0" lang="ru-RU" sz="1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формы</a:t>
                      </a:r>
                      <a:r>
                        <a:rPr b="0" lang="ru-RU" sz="1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по</a:t>
                      </a:r>
                      <a:r>
                        <a:rPr b="0" lang="ru-RU" sz="1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ОКУ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50000">
                          <a:srgbClr val="ffffff"/>
                        </a:gs>
                        <a:gs pos="100000">
                          <a:srgbClr val="ff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5031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50000">
                          <a:srgbClr val="ffffff"/>
                        </a:gs>
                        <a:gs pos="100000">
                          <a:srgbClr val="ffcc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209" name="Rectangle 84"/>
          <p:cNvSpPr/>
          <p:nvPr/>
        </p:nvSpPr>
        <p:spPr>
          <a:xfrm>
            <a:off x="179280" y="527040"/>
            <a:ext cx="8785440" cy="27972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50000">
                <a:srgbClr val="ffffff"/>
              </a:gs>
              <a:gs pos="100000">
                <a:srgbClr val="ff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Сведения</a:t>
            </a:r>
            <a:r>
              <a:rPr b="1" lang="ru-RU" sz="1600" spc="-1" strike="noStrike">
                <a:solidFill>
                  <a:srgbClr val="660066"/>
                </a:solidFill>
                <a:latin typeface="a_FuturaOrto"/>
              </a:rPr>
              <a:t> </a:t>
            </a: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об</a:t>
            </a:r>
            <a:r>
              <a:rPr b="1" lang="ru-RU" sz="1600" spc="-1" strike="noStrike">
                <a:solidFill>
                  <a:srgbClr val="660066"/>
                </a:solidFill>
                <a:latin typeface="a_FuturaOrto"/>
              </a:rPr>
              <a:t> </a:t>
            </a: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использовании</a:t>
            </a:r>
            <a:r>
              <a:rPr b="1" lang="ru-RU" sz="1600" spc="-1" strike="noStrike">
                <a:solidFill>
                  <a:srgbClr val="660066"/>
                </a:solidFill>
                <a:latin typeface="a_FuturaOrto"/>
              </a:rPr>
              <a:t> </a:t>
            </a: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информационо – коммуникационных технологий</a:t>
            </a:r>
            <a:r>
              <a:rPr b="1" lang="ru-RU" sz="1600" spc="-1" strike="noStrike">
                <a:solidFill>
                  <a:srgbClr val="660066"/>
                </a:solidFill>
                <a:latin typeface="a_FuturaOrto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a_FuturaOrto"/>
              </a:rPr>
              <a:t>(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годовая</a:t>
            </a:r>
            <a:r>
              <a:rPr b="1" lang="ru-RU" sz="1200" spc="-1" strike="noStrike">
                <a:solidFill>
                  <a:srgbClr val="ff0000"/>
                </a:solidFill>
                <a:latin typeface="a_FuturaOrto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2E86F-B524-4A20-9820-5C41A5C580D7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179280" y="115920"/>
          <a:ext cx="8748720" cy="5684760"/>
        </p:xfrm>
        <a:graphic>
          <a:graphicData uri="http://schemas.openxmlformats.org/drawingml/2006/table">
            <a:tbl>
              <a:tblPr/>
              <a:tblGrid>
                <a:gridCol w="615960"/>
                <a:gridCol w="615960"/>
                <a:gridCol w="615960"/>
                <a:gridCol w="947880"/>
                <a:gridCol w="1641240"/>
                <a:gridCol w="385920"/>
                <a:gridCol w="1085760"/>
                <a:gridCol w="376200"/>
                <a:gridCol w="308160"/>
                <a:gridCol w="615960"/>
                <a:gridCol w="615960"/>
                <a:gridCol w="307800"/>
                <a:gridCol w="615960"/>
              </a:tblGrid>
              <a:tr h="399960"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д формы по ОКУД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050317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1040">
                <a:tc gridSpan="6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ведения об использовании информационно-коммуникационных технолог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400"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 gridSpan="3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аименование показател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д расходов по Б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умма, руб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сновные цели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0040"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тро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оизведенн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480"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асход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440"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5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. Проектирование прикладных систем и информационно-коммуникационной инфраструктуры, всег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 gridSpan="2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 том числе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 gridSpan="4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азработка технической документаци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880">
                <a:tc gridSpan="4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азработка нормативных правовых акт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520">
                <a:tc gridSpan="3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азработка прочих документ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 gridSpan="5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Разработка (доработка) программного обеспечения, всег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 gridSpan="2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 том числе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 gridSpan="5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азработка программного обеспечения (приобретение исключительных прав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 gridSpan="5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доработка специализированного программного обеспечения прикладных систе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5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. Капитальные вложения в объекты информационно-коммуникационной инфраструктуры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">
                <a:tc gridSpan="2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 том числе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 gridSpan="7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троительство специализированных зданий (помещений) для размещения технических средств и персонал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520"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880">
                <a:tc gridSpan="3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иные капитальные влож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5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.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иобретение оборудования и предустановленного программного обеспечения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520">
                <a:tc gridSpan="2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 том числе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 gridSpan="5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иобретение автоматизированных рабочих мест, транспортно-коммуникационного оборудования, серверного, периферийного и др. оборудова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4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 gridSpan="5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услуги по доставке и складированию оборудования, не включая расходы по закупке запасных инструментов и принадлежностей (комплектующих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4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 gridSpan="5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монтажные и пуско-наладочные работы поставляемых технических средст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4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gridSpan="5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существление комплекса работ по специальным проверкам и исследования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1991B-F556-4394-96B8-23642567FEA1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787A0-9D4E-4E7F-A3E5-0EB91238E262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216000" y="115920"/>
          <a:ext cx="8748720" cy="5513400"/>
        </p:xfrm>
        <a:graphic>
          <a:graphicData uri="http://schemas.openxmlformats.org/drawingml/2006/table">
            <a:tbl>
              <a:tblPr/>
              <a:tblGrid>
                <a:gridCol w="615960"/>
                <a:gridCol w="615960"/>
                <a:gridCol w="615960"/>
                <a:gridCol w="947520"/>
                <a:gridCol w="300240"/>
                <a:gridCol w="1341360"/>
                <a:gridCol w="384120"/>
                <a:gridCol w="1087560"/>
                <a:gridCol w="376200"/>
                <a:gridCol w="307800"/>
                <a:gridCol w="615960"/>
                <a:gridCol w="615960"/>
                <a:gridCol w="306360"/>
                <a:gridCol w="617760"/>
              </a:tblGrid>
              <a:tr h="399960"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д формы по ОКУД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050317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1040">
                <a:tc gridSpan="7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ведения об использовании информационно-коммуникационных технолог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400"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 gridSpan="3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аименование показател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д расходов по Б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умма, руб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сновные цели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0040"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тро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оизведенн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480"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асход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440"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marL="228600" indent="-2286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6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. Приобретение неисключительных прав на программное обеспечение всег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040">
                <a:tc gridSpan="6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. Услуги по аренде оборудования , всег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 gridSpan="6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. Подключение (обеспечение) к внешним информационным ресурсам 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 gridSpan="2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 том числе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gridSpan="3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доступ к телефонной сети связи общего пользования, предоставление доступа к услугам междугородной и международной связи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7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 gridSpan="6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. Эксплуатационные расходы на информационно-коммуникационные технологии 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520">
                <a:tc gridSpan="2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 том числе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 gridSpan="6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беспечение функционирования и поддержка работоспособности  прикладного и системного программного обеспеч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8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 gridSpan="6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техническое обслуживания аппаратного обеспечения  включающее контроль технического состоя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8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 gridSpan="6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. Обучение сотрудников в области информационно-коммуникационных технологий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 gridSpan="6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азработка курсов  для обуч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9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440">
                <a:tc gridSpan="6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бучение пользователей создаваемых  прикладных систем (ПО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9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 gridSpan="6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очее обучение в области информационно-коммуникационных технолог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9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9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2777D-09EF-45FC-B217-F7BED906BF7E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3118680" y="-819000"/>
            <a:ext cx="52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яснительная записка (ф. 050316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2415240" y="235080"/>
            <a:ext cx="52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яснительная записка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(ф. 050316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1143000" y="1633680"/>
            <a:ext cx="184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1234800" y="765000"/>
            <a:ext cx="225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Текстовая ч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3962520" y="2749680"/>
            <a:ext cx="183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6451560" y="765000"/>
            <a:ext cx="177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и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108000" y="1268280"/>
            <a:ext cx="4751280" cy="432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Организационная структура субъек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ной отчетности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Результаты деятельности субъек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ной отчетности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Анализ отчета об исполнен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а субъектом бюджетной отчетности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4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Анализ показателей финансов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ости субъекта бюджетной отчетности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5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Прочие вопросы деятель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ъекта бюджетной отчетности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5364000" y="1268280"/>
            <a:ext cx="3635640" cy="432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ируются в соответств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требования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Инструкции № 191н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содержа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яснения отдель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оказателей испол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бюдже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9"/>
          <p:cNvSpPr/>
          <p:nvPr/>
        </p:nvSpPr>
        <p:spPr>
          <a:xfrm>
            <a:off x="4716360" y="3645000"/>
            <a:ext cx="792360" cy="215640"/>
          </a:xfrm>
          <a:prstGeom prst="leftRightArrow">
            <a:avLst>
              <a:gd name="adj1" fmla="val 50000"/>
              <a:gd name="adj2" fmla="val 5006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4C813-533C-457B-8E4C-315E27B9411A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7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76"/>
          <p:cNvSpPr/>
          <p:nvPr/>
        </p:nvSpPr>
        <p:spPr>
          <a:xfrm>
            <a:off x="2321640" y="666720"/>
            <a:ext cx="260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28497a"/>
                </a:solidFill>
                <a:latin typeface="Arial"/>
              </a:rPr>
              <a:t>По приносящей доход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77"/>
          <p:cNvSpPr/>
          <p:nvPr/>
        </p:nvSpPr>
        <p:spPr>
          <a:xfrm>
            <a:off x="302040" y="2563920"/>
            <a:ext cx="152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* * * * * * * * * * * * * * * * * * * 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78"/>
          <p:cNvSpPr/>
          <p:nvPr/>
        </p:nvSpPr>
        <p:spPr>
          <a:xfrm>
            <a:off x="2916360" y="2565360"/>
            <a:ext cx="776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220121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79"/>
          <p:cNvSpPr/>
          <p:nvPr/>
        </p:nvSpPr>
        <p:spPr>
          <a:xfrm>
            <a:off x="4718520" y="2565360"/>
            <a:ext cx="54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235 4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80"/>
          <p:cNvSpPr/>
          <p:nvPr/>
        </p:nvSpPr>
        <p:spPr>
          <a:xfrm>
            <a:off x="6012000" y="256536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81"/>
          <p:cNvSpPr/>
          <p:nvPr/>
        </p:nvSpPr>
        <p:spPr>
          <a:xfrm>
            <a:off x="7166520" y="2565360"/>
            <a:ext cx="54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294 4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82"/>
          <p:cNvSpPr/>
          <p:nvPr/>
        </p:nvSpPr>
        <p:spPr>
          <a:xfrm>
            <a:off x="8388360" y="256536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83"/>
          <p:cNvSpPr/>
          <p:nvPr/>
        </p:nvSpPr>
        <p:spPr>
          <a:xfrm>
            <a:off x="6012000" y="378936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84"/>
          <p:cNvSpPr/>
          <p:nvPr/>
        </p:nvSpPr>
        <p:spPr>
          <a:xfrm>
            <a:off x="2916360" y="3789360"/>
            <a:ext cx="776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220121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85"/>
          <p:cNvSpPr/>
          <p:nvPr/>
        </p:nvSpPr>
        <p:spPr>
          <a:xfrm>
            <a:off x="4718520" y="3789360"/>
            <a:ext cx="54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235 4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86"/>
          <p:cNvSpPr/>
          <p:nvPr/>
        </p:nvSpPr>
        <p:spPr>
          <a:xfrm>
            <a:off x="7238160" y="3789360"/>
            <a:ext cx="54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294 4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87"/>
          <p:cNvSpPr/>
          <p:nvPr/>
        </p:nvSpPr>
        <p:spPr>
          <a:xfrm>
            <a:off x="8317080" y="378936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88"/>
          <p:cNvSpPr/>
          <p:nvPr/>
        </p:nvSpPr>
        <p:spPr>
          <a:xfrm>
            <a:off x="7236000" y="609300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9"/>
          <p:cNvSpPr/>
          <p:nvPr/>
        </p:nvSpPr>
        <p:spPr>
          <a:xfrm>
            <a:off x="6012000" y="609300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90"/>
          <p:cNvSpPr/>
          <p:nvPr/>
        </p:nvSpPr>
        <p:spPr>
          <a:xfrm>
            <a:off x="9036000" y="321300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91"/>
          <p:cNvSpPr/>
          <p:nvPr/>
        </p:nvSpPr>
        <p:spPr>
          <a:xfrm>
            <a:off x="4788000" y="609300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92"/>
          <p:cNvSpPr/>
          <p:nvPr/>
        </p:nvSpPr>
        <p:spPr>
          <a:xfrm>
            <a:off x="3276720" y="609300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93"/>
          <p:cNvSpPr/>
          <p:nvPr/>
        </p:nvSpPr>
        <p:spPr>
          <a:xfrm>
            <a:off x="8388360" y="609300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94"/>
          <p:cNvSpPr/>
          <p:nvPr/>
        </p:nvSpPr>
        <p:spPr>
          <a:xfrm>
            <a:off x="4645440" y="6381720"/>
            <a:ext cx="54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235 4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95"/>
          <p:cNvSpPr/>
          <p:nvPr/>
        </p:nvSpPr>
        <p:spPr>
          <a:xfrm>
            <a:off x="7095240" y="6381720"/>
            <a:ext cx="54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294 4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96"/>
          <p:cNvSpPr/>
          <p:nvPr/>
        </p:nvSpPr>
        <p:spPr>
          <a:xfrm>
            <a:off x="8388360" y="638172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97"/>
          <p:cNvSpPr/>
          <p:nvPr/>
        </p:nvSpPr>
        <p:spPr>
          <a:xfrm>
            <a:off x="6012000" y="630864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98"/>
          <p:cNvSpPr/>
          <p:nvPr/>
        </p:nvSpPr>
        <p:spPr>
          <a:xfrm>
            <a:off x="6498360" y="404640"/>
            <a:ext cx="666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Arial"/>
              </a:rPr>
              <a:t>(годовая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9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14963-7E23-4807-80B3-129B1F1DE121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677880" y="960480"/>
            <a:ext cx="7853400" cy="545940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659640" y="44280"/>
            <a:ext cx="2394000" cy="3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4000"/>
              </a:srgbClr>
            </a:outerShdw>
          </a:effectLst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Segoe Semibold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Segoe Semibold"/>
              </a:rPr>
              <a:t>ф. 0503182</a:t>
            </a:r>
            <a:endParaRPr b="0" lang="en-US" sz="2000" spc="-1" strike="noStrike">
              <a:solidFill>
                <a:srgbClr val="ffb601"/>
              </a:solidFill>
              <a:latin typeface="Segoe Semibold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BA856-BF4B-4D57-9204-23BF857096F3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34920" y="55440"/>
            <a:ext cx="9036000" cy="24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Сведения об основных направлениях деятельности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учреждения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                            Таблица №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6360" y="357120"/>
          <a:ext cx="9036360" cy="4641840"/>
        </p:xfrm>
        <a:graphic>
          <a:graphicData uri="http://schemas.openxmlformats.org/drawingml/2006/table">
            <a:tbl>
              <a:tblPr/>
              <a:tblGrid>
                <a:gridCol w="2914920"/>
                <a:gridCol w="4373280"/>
                <a:gridCol w="1748160"/>
              </a:tblGrid>
              <a:tr h="39852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цели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раткая характерис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равовое обосн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744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8600"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1.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Оказание медицинской помощи населению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врачебная помощь (акушерское дело, лечебное дело, стоматология, эпидемиология, лабораторная диагностика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 Амбулаторно-поликлиническая помощь, в том числе в условиях дневного стационара и стационара на дому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 Работы и услуги по экспертизе временной нетрудоспособности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Работы и услуги по экспертизе (контроль) качества медицинской помощи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28497a"/>
                          </a:solidFill>
                          <a:latin typeface="Arial"/>
                        </a:rPr>
                        <a:t>Работы и услуги по предварительным и периодическим медицинским</a:t>
                      </a:r>
                      <a:r>
                        <a:rPr b="1" lang="en-US" sz="1400" spc="-1" strike="noStrike">
                          <a:solidFill>
                            <a:srgbClr val="28497a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28497a"/>
                          </a:solidFill>
                          <a:latin typeface="Arial"/>
                        </a:rPr>
                        <a:t>осмотрам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Работы и услуги по профилактической медицине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Устав,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Закон о здравоохранен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ожение о порядке предоставления платных услуг населению лицензия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81040"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2. Оказание платных медицинских услу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Оказание населению дополнительных к гарантированному объему бесплатной медицинской помощи услуг в виде профилактической, лечебно-диагностической, реабилитационной, протезно-ортопедической и зубопротезной помощи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0" name="Rectangle 158"/>
          <p:cNvSpPr/>
          <p:nvPr/>
        </p:nvSpPr>
        <p:spPr>
          <a:xfrm>
            <a:off x="0" y="5004720"/>
            <a:ext cx="9144000" cy="178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Таблица оформляется главным распорядителем (распорядителем), получателем средств бюджета, администратором поступлений в бюджет, органом, организующим исполнение бюджета, органом, осуществляющим кассовое обслуживание исполнения бюдж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 графе 1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указываются цели, для исполнения которых создан и функционирует субъек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 графе 2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указывается краткая характеристика целей деятельности путем отражения основных направлений деятельности и функций субъекта бюджетной отчет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 графе 3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указывается правовое обоснование установленных целей и функций в соответствии с действующими нормативными правовыми и организационно-распорядительными документ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44743-84C2-4FBB-B026-A8798608A2D2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0" y="790560"/>
          <a:ext cx="9144000" cy="5813280"/>
        </p:xfrm>
        <a:graphic>
          <a:graphicData uri="http://schemas.openxmlformats.org/drawingml/2006/table">
            <a:tbl>
              <a:tblPr/>
              <a:tblGrid>
                <a:gridCol w="1979640"/>
                <a:gridCol w="1338120"/>
                <a:gridCol w="959040"/>
                <a:gridCol w="1031760"/>
                <a:gridCol w="3835440"/>
              </a:tblGrid>
              <a:tr h="449640"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ринятые ме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Распорядительные докумен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Результаты принятых м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Ном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да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03760"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ведение нормативов обеспечения сотрудников канцелярскими принадлежностя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ка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01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окращение расходов по статье 340 «Увеличение стоимости материальных запасов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6200"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становка счетчиков воды, тепл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кономия бюджетных средств по КБК 2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6280"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существление контроля за ведением междугородних телефонных переговоров сотруд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ка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02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Segoe Semibold"/>
                          <a:ea typeface="Times New Roman"/>
                        </a:rPr>
                        <a:t>Экономия бюджетных средств за счет  уменьшения расходов по КБК  2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95120">
                <a:tc gridSpan="5"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Segoe Semibold"/>
                        </a:rPr>
                        <a:t>Информация в таблице характеризует меры по повышению эффективност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Segoe Semibold"/>
                        </a:rPr>
                        <a:t>бюджетных средств, проводимые субъектом бюджетной отчетности на основании организационно-распорядительных документов главного распорядителя (распорядителя) и получателя средств бюджет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8497a"/>
                          </a:solidFill>
                          <a:latin typeface="Segoe Semibold"/>
                        </a:rPr>
                        <a:t>Таблица оформляется  получателем средств бюджета.</a:t>
                      </a: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egoe Semibold"/>
                        </a:rPr>
                        <a:t>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3" name="Rectangle 56"/>
          <p:cNvSpPr/>
          <p:nvPr/>
        </p:nvSpPr>
        <p:spPr>
          <a:xfrm>
            <a:off x="34920" y="-61560"/>
            <a:ext cx="9109080" cy="7869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ведения о мерах по повышению эффективности расход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                          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бюджетных средств</a:t>
            </a:r>
            <a:r>
              <a:rPr b="1" lang="ru-RU" sz="1400" spc="-1" strike="noStrike">
                <a:solidFill>
                  <a:srgbClr val="a50021"/>
                </a:solidFill>
                <a:latin typeface="Arial"/>
                <a:ea typeface="Times New Roman"/>
              </a:rPr>
              <a:t>                                                                                               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Таблица № 2</a:t>
            </a:r>
            <a:r>
              <a:rPr b="1" lang="ru-RU" sz="1400" spc="-1" strike="noStrike">
                <a:solidFill>
                  <a:srgbClr val="a50021"/>
                </a:solidFill>
                <a:latin typeface="Arial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E19A7-00F1-4C9C-87BE-E53A7F5EB56A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179280" y="189000"/>
            <a:ext cx="8785440" cy="27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Св</a:t>
            </a:r>
            <a:r>
              <a:rPr b="1" lang="ru-RU" sz="1600" spc="-1" strike="noStrike">
                <a:solidFill>
                  <a:srgbClr val="660066"/>
                </a:solidFill>
                <a:latin typeface="Arial"/>
                <a:ea typeface="Times New Roman"/>
              </a:rPr>
              <a:t>едения о</a:t>
            </a: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 исполнении текстовых статей закона (решения) о бюджете</a:t>
            </a:r>
            <a:r>
              <a:rPr b="1" lang="ru-RU" sz="1200" spc="-1" strike="noStrike">
                <a:solidFill>
                  <a:srgbClr val="660066"/>
                </a:solidFill>
                <a:latin typeface="Arial"/>
                <a:ea typeface="Times New Roman"/>
              </a:rPr>
              <a:t>     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Таблица №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79280" y="549360"/>
          <a:ext cx="8778960" cy="2351160"/>
        </p:xfrm>
        <a:graphic>
          <a:graphicData uri="http://schemas.openxmlformats.org/drawingml/2006/table">
            <a:tbl>
              <a:tblPr/>
              <a:tblGrid>
                <a:gridCol w="2925720"/>
                <a:gridCol w="2927520"/>
                <a:gridCol w="2925720"/>
              </a:tblGrid>
              <a:tr h="7351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Содержание статьи зак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(решения) о бюджет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Результат испол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ричины неиспол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92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108000" y="2781360"/>
          <a:ext cx="8893080" cy="3851280"/>
        </p:xfrm>
        <a:graphic>
          <a:graphicData uri="http://schemas.openxmlformats.org/drawingml/2006/table">
            <a:tbl>
              <a:tblPr/>
              <a:tblGrid>
                <a:gridCol w="8893080"/>
              </a:tblGrid>
              <a:tr h="3916080"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аблица № 3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оформляется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главным распорядителем (распорядителем), администратором поступлений в бюджет, органом, организующим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сполнение бюджета.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блица содержит результаты исполнения текстовых статей закона (решения) о бюджет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 графе 1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указывается содержание текстовой статьи закона (решения) о бюджете,  имеющей отношение к субъекту бюджетной отчетно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 графе 2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казывается результат исполнения положений текстовых стат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с указанием показателей, характеризующих степень из результативности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 графе 3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казываются причины неисполнения положений текстовых стат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7e993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A59DA-C1FC-424E-911F-9AB498DBFD48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34920" y="404640"/>
          <a:ext cx="9109080" cy="6231240"/>
        </p:xfrm>
        <a:graphic>
          <a:graphicData uri="http://schemas.openxmlformats.org/drawingml/2006/table">
            <a:tbl>
              <a:tblPr/>
              <a:tblGrid>
                <a:gridCol w="2881440"/>
                <a:gridCol w="1368360"/>
                <a:gridCol w="2158920"/>
                <a:gridCol w="2700360"/>
              </a:tblGrid>
              <a:tr h="96804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Наименование объекта уч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Код счета бюджетного уч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Характеристика метода оценки и момент отражения операции в учет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Правовое обос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928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1360">
                <a:tc gridSpan="4"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Информация в таблице характеризует использованные в отчетном периоде особенности отражения в бюджетном учете операций  в части установленного Инструкцией по бюджетному учету </a:t>
                      </a: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Segoe Semibold"/>
                        </a:rPr>
                        <a:t>права самостоятельного определения таких особенностей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 и отраслевых особенностей бюджетного учета, </a:t>
                      </a: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Segoe Semibold"/>
                        </a:rPr>
                        <a:t>разработанных соответствующими федеральными органами исполнительной власти и  утвержденных в установленном порядк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Таблица оформляется главным распорядителем (распорядителем), получателем средств бюджета, администратором поступлений в бюджет, органом, организующим исполнение бюджета, органом, осуществляющим кассовое обслуживание исполнения бюдже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Segoe Semibold"/>
                        </a:rPr>
                        <a:t>В графе 1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 указывается наименование объекта бюджетного учета, в отношении которого применяются особенности при отражении операций в бюджетном учет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Segoe Semibold"/>
                        </a:rPr>
                        <a:t>В графе 2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 указывается код счета бюджетного учета, на котором отражаются указанные в графе 1 объекты бюджетного учет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Segoe Semibold"/>
                        </a:rPr>
                        <a:t>В графе 3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 указывается характеристика применяемых особенностей бюджетного учета в отношении указанных в графе 1 объектов бюджетного учет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Segoe Semibold"/>
                        </a:rPr>
                        <a:t>В графе 4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 указывается правовое обоснование применения определенных в графе 3 особенностей (особенности, определенные исходя из положений Инструкции по бюджетному учету и организационно-распорядительных документов соответствующих федеральных органов исполнительной власти, введенных в действие в установленном порядке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0" name="Rectangle 48"/>
          <p:cNvSpPr/>
          <p:nvPr/>
        </p:nvSpPr>
        <p:spPr>
          <a:xfrm>
            <a:off x="0" y="45720"/>
            <a:ext cx="9144000" cy="24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ведения о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б особенностях ведения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бюджетного учета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             Таблица №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BC7A4-B534-4DC5-BC1A-038774BDC62A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15"/>
          <p:cNvSpPr/>
          <p:nvPr/>
        </p:nvSpPr>
        <p:spPr>
          <a:xfrm>
            <a:off x="592200" y="0"/>
            <a:ext cx="8551800" cy="27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ведени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б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собенностях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едения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бюджетного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чет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одова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Таблица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№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4920" y="333360"/>
          <a:ext cx="9144000" cy="6600960"/>
        </p:xfrm>
        <a:graphic>
          <a:graphicData uri="http://schemas.openxmlformats.org/drawingml/2006/table">
            <a:tbl>
              <a:tblPr/>
              <a:tblGrid>
                <a:gridCol w="2247840"/>
                <a:gridCol w="920880"/>
                <a:gridCol w="4895640"/>
                <a:gridCol w="1079640"/>
              </a:tblGrid>
              <a:tr h="5839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кт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чет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юджетног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арактеристика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ода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ценки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мент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ражения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ерации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ет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овое обос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49480"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финансовы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ктивы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625840"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ны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01010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яти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ету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–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оначально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оначальна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ь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–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ически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трат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режден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обретени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,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оружени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готовлени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кто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ст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возмездном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ени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говору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рен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)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кто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ст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оначально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ью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знаетс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куща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ыночна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ь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у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ят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юджетному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ету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писан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т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ем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-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дач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сани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итс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аточно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кты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ст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ью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1000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б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сываютс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оначально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дач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луатацию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писан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т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сан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л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домост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дач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риальны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носте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ужды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режден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струкц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162-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052360"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мортиза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01040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кты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М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ью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3000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б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ключительн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ортизац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числяетс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кты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М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ью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3000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б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40000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б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ключительн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ортизац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числяетс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мер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100 %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ансово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дач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кт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ст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луатац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кты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М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ью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10000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б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ортизац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числяетс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нейным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собом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рмам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,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численным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ход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ок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езног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ользован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жемесячн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едни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ь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сяц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струкц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16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861840"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териальны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пас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01050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яти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ету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–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ическо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ят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ету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ани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кументо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авщ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сани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итс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е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ическо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дач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луатац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струкц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162-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CB36E-3FAC-4F5D-9236-1A596AEB4C09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0" y="0"/>
          <a:ext cx="9109080" cy="6858000"/>
        </p:xfrm>
        <a:graphic>
          <a:graphicData uri="http://schemas.openxmlformats.org/drawingml/2006/table">
            <a:tbl>
              <a:tblPr/>
              <a:tblGrid>
                <a:gridCol w="9109080"/>
              </a:tblGrid>
              <a:tr h="6858000"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35"/>
          <p:cNvSpPr/>
          <p:nvPr/>
        </p:nvSpPr>
        <p:spPr>
          <a:xfrm>
            <a:off x="179280" y="239400"/>
            <a:ext cx="8769960" cy="3106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Times New Roman"/>
              </a:rPr>
              <a:t>Сведения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Times New Roman"/>
              </a:rPr>
              <a:t>о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Times New Roman"/>
              </a:rPr>
              <a:t>результатах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Times New Roman"/>
              </a:rPr>
              <a:t>мероприятий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Times New Roman"/>
              </a:rPr>
              <a:t>внутреннего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Times New Roman"/>
              </a:rPr>
              <a:t>контроля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               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Таблица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№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44360" y="981000"/>
          <a:ext cx="8964720" cy="4270320"/>
        </p:xfrm>
        <a:graphic>
          <a:graphicData uri="http://schemas.openxmlformats.org/drawingml/2006/table">
            <a:tbl>
              <a:tblPr/>
              <a:tblGrid>
                <a:gridCol w="1638360"/>
                <a:gridCol w="4411800"/>
                <a:gridCol w="1457280"/>
                <a:gridCol w="1457280"/>
              </a:tblGrid>
              <a:tr h="12268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ип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трольны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варительны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кущи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следующи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явленные наруш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ры по устранению выявленных нарушен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</a:tr>
              <a:tr h="249480">
                <a:tc>
                  <a:txBody>
                    <a:bodyPr lIns="72000" rIns="72000" tIns="18000" bIns="18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</a:tr>
              <a:tr h="583920"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варитель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ставлени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меты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ходо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ходо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раммы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полнен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рожны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бот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едующи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нансовы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д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</a:tr>
              <a:tr h="1044360"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кущ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троль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левым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пользованием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ст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меты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ходо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ходо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уктурным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разделениям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ени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четност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тановленно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рректировк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мет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ходо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ходо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формлением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обходимы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основывающи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кументо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</a:tr>
              <a:tr h="948960">
                <a:tc>
                  <a:txBody>
                    <a:bodyPr lIns="72000" rIns="72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Последующий контро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1.Проверка соответствия перечня и номенклатуры полученных учреждением товаров (работ, услуг) перечню и номенклатуре оплачиваемых товаров (работ, услуг) согласно догово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тановление факта получения основных средств, оплаченных по КБК 3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исьмо в ФКУ о корректировк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8T13:03:43Z</dcterms:created>
  <dc:creator>PETROV</dc:creator>
  <dc:description/>
  <dc:language>en-US</dc:language>
  <cp:lastModifiedBy>Валентина</cp:lastModifiedBy>
  <cp:lastPrinted>2003-10-16T11:02:04Z</cp:lastPrinted>
  <dcterms:modified xsi:type="dcterms:W3CDTF">2011-12-05T13:31:54Z</dcterms:modified>
  <cp:revision>1777</cp:revision>
  <dc:subject/>
  <dc:title>Заголовок слайда отсутствует</dc:title>
</cp:coreProperties>
</file>