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4761-D946-41C3-B8B0-FD2EB88D34F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472D-D6E9-4877-B6FA-BECD3E00C2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7F4-CFB3-436C-9BCF-1118A405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1FB-B5AE-40FA-9E99-1A77E856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691-0411-4C57-8C72-10356B7A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408-8DBA-4947-8B0A-E6AFD591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470-DAC3-40D9-9B55-01C5BA5C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370-8E90-4599-B167-1D67297B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A3C-05E1-4B26-9CFA-56339FFD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36C-5CAB-45D4-B001-1A41B63A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5D1-FEE4-4D3E-BCA1-25FA08E2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35A-43D6-466D-B012-B9F88DD6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494-41E4-4AA5-A05A-FC910CB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D2D-31E7-4584-ACBF-A3FA1FA9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BAED-079B-4F2B-993F-448F36F69F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7CA0-F8A6-40AB-BD00-6815F81A8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67A-7F5B-4249-B4C1-CA2E8D1066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69EC-0D18-441A-A74B-49AA4DDC6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AFD-CCA7-4A92-A3A0-108499D02F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910C-E90C-46DE-8642-FC4700C6D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D05-1DCD-42EB-8513-DD1ADA4A08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BBBE-8EC4-48A7-97C0-E78884B49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8BB-CEA3-4C61-A67B-75BC3E03DF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38F7-10EB-47B0-9F80-843E0352A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en-US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ADD-BD1C-451C-8725-31BFD5D6C7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заработка в 12             определение среднего заработка в 24 календарных месяцах, перед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месяцем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, предшествующих году наступл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наступления страхового случая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страхового случ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дневного                       определение среднего дневного заработ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(общий заработок  делим                (общий заработок делим на 73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на кол-во календарных дней, за которы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лучен заработо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 среднего дневного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из предельной велич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азы (415000 : 36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сравнение данных, полученных    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и действии 2 и 3 ша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из меньшей величины определяем                    из среднего дневного заработка, получен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размер  дневного пособия                                   в действии 2, определяем размер днев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определение суммы пособия                              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60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AC5-D972-4ED2-B677-9A3DB4EBA2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B602-D831-4531-811C-27CCA978C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en-US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1BF-9E0A-460B-9005-9C1D7FC57D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CD11-86C4-4D21-8B13-B3F14F948D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DFF-DC26-4036-8A18-7FA88ECF03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88D1-21F3-4C76-B71C-A01645AD7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2C7-73D4-4E9F-AD65-1288271133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7848-29BD-4D94-84E0-A22BA24F7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Дуга 12"/>
          <p:cNvSpPr/>
          <p:nvPr/>
        </p:nvSpPr>
        <p:spPr>
          <a:xfrm>
            <a:off x="7000920" y="5072040"/>
            <a:ext cx="46080" cy="46080"/>
          </a:xfrm>
          <a:custGeom>
            <a:avLst/>
            <a:gdLst>
              <a:gd name="textAreaLeft" fmla="*/ 23040 w 46080"/>
              <a:gd name="textAreaRight" fmla="*/ 46440 w 460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  <a:lnTo>
                  <a:pt x="23019" y="23019"/>
                </a:lnTo>
                <a:close/>
              </a:path>
              <a:path fill="none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</a:path>
            </a:pathLst>
          </a:custGeom>
          <a:noFill/>
          <a:ln w="9360">
            <a:solidFill>
              <a:srgbClr val="fd82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AF0-3FFF-4F70-A853-6B37164C8A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AC6-9AFB-4DCC-BB11-798CA9B5FE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E51E-5477-41D5-910C-2F7CB2BB6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278-7669-4B75-9A06-ADF9D7866D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9A4B-2829-4AC9-AF31-570BEA3A5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29F-F5BD-40BF-A0DF-63EEFF15C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F006-3CC5-403C-856E-6D24EDC822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291-CBAF-4BEE-A088-B4832CC3E5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0-12-16T06:34:27Z</dcterms:modified>
  <cp:revision>304</cp:revision>
  <dc:subject/>
  <dc:title>Слайд 1</dc:title>
</cp:coreProperties>
</file>