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9880" y="739440"/>
            <a:ext cx="493884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0240" cy="444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7"/>
          </p:nvPr>
        </p:nvSpPr>
        <p:spPr>
          <a:xfrm>
            <a:off x="3851280" y="93801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6FB54-F0CF-4B6D-B3A0-078E071EAB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CF17EA-F5E2-4AE1-BE9B-DC80156C07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320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46398C-2645-411C-B372-297979EC13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320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320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671F9-8E83-403A-91F9-A542B4B728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7C624-73BF-447C-A978-026E5E00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430C1-0ED6-4145-B934-DE395F8A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E8443-B8BB-45CF-9FC0-80677AB444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1BA1F-FC3B-43F4-8AD2-A146535EBC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8ED3D-1790-4B1A-A791-D7F77C12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80C11-8E0F-4032-BA71-573CE593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13050-25C1-44D5-B0D7-4D2B0F4F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F6FEB-87E5-427E-A8D1-1D49438E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4412B-80A4-4ED2-A1DA-0EF86E2E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F68C2-167E-42FF-A0B0-BAEFEB71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A3065-3B89-42A0-8DAD-5F286B68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EE9BC-1A5F-4C1A-B471-CBC96DE3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F0A6C-296A-414D-B812-C53ABD27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14BB8-E326-4463-938E-15F9C1A4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4E9F1-3ACD-4F2A-B130-3435CE74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F652B-262F-453B-9AF6-54DDC77E09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C9966-8CCE-4EA0-93FA-B381BBA51B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29262-674D-4BDB-AEC4-55E6CE3D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F8942-AB84-4E3E-92FB-B2057C2B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F2450-95CF-4A26-B6A3-8C793F84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A44BA-5650-4E6D-99A7-7D406938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BE5D8-CDCC-4D42-8B6A-311B5F7A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087D6-DF06-4EFF-B752-3A3A077E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70820-CCC3-41C2-9CDE-33D57AF6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A90AF-85C0-49E0-9EAB-EF75EB6D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6A816-98B4-41CA-ABAB-8C674A52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A9A7F-5C3B-4AE9-8FA3-00DA64F0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1D14B-BBC4-4F06-9486-85A62808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677DE-00F9-4347-9170-B3D67113BE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A34A5-A606-4114-A9E9-C7465304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453C6-8A74-458C-9732-FFDB12F4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FF47C-DDE2-4A2C-BB30-065AF598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04AFF-249F-4F64-BAAF-0D0D82F6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684D8-5901-4DB4-833B-FC775A5F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9DC3A-5545-4B71-A20E-73E95E3D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31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200" y="1487520"/>
            <a:ext cx="88106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.0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81720"/>
            <a:ext cx="2589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D7B1781-0D92-41DE-91F3-B39A15AC35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6120" indent="-27828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.0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CF88833-D0D2-404E-BFBC-4A1B012E41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6120" indent="-27828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702EAB0-E013-4BDA-98D4-52CBF40A561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30.0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32508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МИФЫ и РЕАЛЬНОСТЬ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о законопроек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268280"/>
            <a:ext cx="4067280" cy="43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Финансовое обеспечение деятельности бюджетных учреждений осуществляется по смете. В итоге они  заинтересованы просто потратить бюджетные деньги </a:t>
            </a:r>
            <a:r>
              <a:rPr b="1" lang="en-GB" sz="1700" spc="-1" strike="noStrike">
                <a:solidFill>
                  <a:srgbClr val="ff0000"/>
                </a:solidFill>
                <a:latin typeface="Times New Roman"/>
              </a:rPr>
              <a:t>до конца финансового года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и обосновать увеличение сметы на следующий год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Связь финансирования и результатов деятельности учреждения напрямую отсутствует, осуществляется содержание действующей сети учреждений, а не объема услуг (ст. 161, 221 БК РФ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Законопроект не повысит качество услуг для граждан, а также заинтересованность бюджетных учреждений в результатах своей деяте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6872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1268280"/>
            <a:ext cx="5148360" cy="4464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Финансовое обеспечение выполнения госзадания осуществляется путем предоставления субсидии на его выполнение. Госзадание устанавливает показатели эффективности, объема, категории получателей госуслуги и результаты от оказания услуг, таким образом устанавливается связь между финансовым обеспечением учреждения и качеством (результатом) его работ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Не использованные до конца финансового года остатки субсидий, предоставленных бюджетному учреждению на выполнение госзадания, </a:t>
            </a:r>
            <a:r>
              <a:rPr b="1" lang="en-GB" sz="1700" spc="-1" strike="noStrike">
                <a:solidFill>
                  <a:srgbClr val="ff0000"/>
                </a:solidFill>
                <a:latin typeface="Times New Roman"/>
              </a:rPr>
              <a:t>остаются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в распоряжении бюджетного учреждения (п. 10 ст. 19 Законопроект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87700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ФИНАНСОВОЕ ОБЕСПЕЧЕНИЕ УВЯЗЫВАЕТСЯ С РЕЗУЛЬТАТОМ И ПОКАЗАТЕЛЯМИ ЭФФЕКТИВНОСТИ ОКАЗАНИЯ ГОСУСЛУГИ, СОЗДАЕТСЯ МОТИВАЦИИЯ ДЛЯ ЭКОНОМИИ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«Принятие законопроекта повлечет массовые увольн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916280"/>
            <a:ext cx="9144000" cy="3816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В законопроекте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прямо указано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, что в связи с его принятием не требуется переназначение руководителей и работников казенных учреждений, созданных в соответствии с законом, и существующих бюджетных учреждений (п. 7 ст. 20 Законопроекта)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1125360"/>
            <a:ext cx="3492360" cy="408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онтроль за осуществлением расходов на соответствие содержания операции доведенным лимитам бюджетных обязательств осуществляется на этапе санкционирования кассовых выплат с лицевых счетов отрытых учреждениям в Федеральном казначейств или финансовом органе (ст. 161, 219 БК РФ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роме того, информация о деятельности бюджетного учреждения закрыта для общественности, так как законодательство не устанавливает нормы о публикации такой информации в открытом доступ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Средства бюджета, попав в новые бюджетные учреждения, перестанут контролироваться их использование не будет прозрачны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125360"/>
            <a:ext cx="5651640" cy="4104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5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Счета по прежнему будут открыты в Федеральном казначействе или финансовом органе, таким образом, хоть санкционирования за использованием субсидии на госзадание не предусматривается, но содержание операции становится видным, в том числе и для проверяющи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Кроме того, в открытом доступе в сети Интернет публикуются следующие сведения об учреждениях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) Юридические документы - учредительные документы; свидетельство о государственной регистрации; решение учредителя о создании; решение учредителя о назначении руководителя; положения о филиалах, представительств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) Финансовые документы - план финансово-хозяйственной деятельности; годовая бухгалтерская отчетность; сведения о проведенных в отношении учреждения контрольных мероприятиях и их результатах; госзадание на оказание услуг (выполнение работ); отчет о результатах деятельности и об использовании закрепленного госимущества      (ст. 32 Закона «О некоммерческих организациях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093000"/>
            <a:ext cx="914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ДЕЯТЕЛЬНОСТЬ БЮДЖЕТНЫХ УЧРЕЖДЕНИЙ СТАНЕТ НАМНОГО ПРОЗРАЧНЕЕ ДЛЯ ОБЩЕСТВЕННОГО 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Распределение госзаданий приведет к повышению корруп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052640"/>
            <a:ext cx="9144000" cy="4680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Коррупциогенный фактор создается не в процессе формирования сметы или госзадания, а в результате отсутствия прозрачности и нечеткости административных процеду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Законопроект направлен на повышение публичности и открытости деятельности бюджетных учреждений (ст. 32 Закона «О некоммерческих организациях»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В бюджетной смете утверждается объем финансового обеспечения, в госзадании утверждается не только объем субсидии на его выполнение, но и устанавливаются показатели эффективности (ст. 69.2 БК РФ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02136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ЗАКОНОПРОЕКТ НЕ СОЗДАЕТ  КОРРУПЦИОГЕННЫХ Н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26028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Руководители новых бюджетных учреждений станут полновластными хозяевами бюджетных учреждений, не подконтрольными ником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268280"/>
            <a:ext cx="9144000" cy="44625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Кроме предусмотренной в настоящее время законодательством РФ ответственности (административной, уголовной) руководитель несет также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персональную ответствен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за просроченную кредиторскую задолженность бюджетного учреждения, превышающую предельно допустимые значения, установленную органом, осуществляющим функции и полномочия учредителя, за превышение которой трудовой договор с ним может быть расторгнут в одностороннем порядке (п. 6 ст. 19 Законопроекта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Руководитель бюджетного учреждения несет перед бюджетным учреждение ответственность в размере убытков, причиненных в результате совершения крупной сделки, в случае если эта сделка не была предварительно согласована с учредителем (п.12 ст. 9.2 Закона «О некоммерческих организациях»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01336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ЗА ПРОСРОЧЕННУЮ КРЕДИТОРСКУЮ ЗАДОЛЖЕННОСТЬ – УВОЛЬНЕНИЕ, ЗА УБЫТОК – ВЗЫСКАНИЕ В РАЗМЕРЕ УБЫ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УСТАНОВЛЕНИЕ УКАЗАННЫХ НОРМ ТРЕБУЕТ ОТ УЧРЕДИТЕЛЯ БЮДЖЕТНОГО УЧРЕЖДЕНИЯ ПОСТОЯННОГО МОНИТОРИНГА ФИНАНСОВОГО СОСТОЯНИЯ БЮДЖЕТНОГО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Целью законопроекта являе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овышение качества государственных (муниципальных) услуг, предоставляемых насел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оздание стимула и мотивации для учреждений к эффективному использованию финансовых ресурсов и государственного (муниципального) имущ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устанавливаются новые нормы, направленные на обеспечение прозрачности деятельности бюджетных учрежд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место существующей информации об исполнении сметы, предметом отчетности бюджетного учреждения становится отчет о результатах деятельности и об использовании закрепленного за учреждением имущ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законопроект вводит новые нормы контроля за бюджетным учреждением, в том числе посредством контроля за финансовым состоянием (просроченной кредиторской задолженности, за совершением крупной сделки,  информацией о деятельности бюджетного учреждения, в том числе в части выполнении государственного задания, о результатах проведенных в отношении учреждения контрольных мероприят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24720" y="6526080"/>
            <a:ext cx="1511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ahoma"/>
              </a:rPr>
              <a:t>Слайд 1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-41400"/>
            <a:ext cx="91440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Обсуждение законопроекта идет тихо, не обеспечена необходимая гласность и открыто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07920"/>
            <a:ext cx="9144000" cy="532944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Данное утверждение не соответствует действ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Разработка законопроекта была предусмотре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Концепцией развития гражданского законодательства Российской Федерации, одобренной решением Совета при Президенте РФ по кодификации и совершенствованию гражданского законодательства от 07.10.2009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Планом мероприятий по совершенствованию государственного управления в 2009 - 2010 годах, утвержденным распоряжением Правительства РФ от 03.12.2009 № 1862-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 Бюджетном послании 25 мая 2009 г. Президентом Российской Федерации Федеральному Собранию была поставлена задача совершенствования правового положения государственных (муниципальных) учреж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далее см. слайд 2.1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Продолжение слайда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04640"/>
            <a:ext cx="9144000" cy="554544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Разработка законопроекта осуществлялась Рабочей группой при Правительстве Российской Федерации, с участием представителей федеральных органов государственной власти, ГУ ВШЭ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Законопроект был внесен 31 декабря 2009 г. Правительством РФ  в Госдуму РФ и размещен на сайте Госдумы, направлен всем субъектам Российской Федерации, а также в Счетную и Общественную палаты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Законопроект был обсужден в 13 комитетах и комиссиях Государственной Думы и Совета Федера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6 и 27 февраля 2010 года на совещании Министерства финансов РФ с представителями всех федеральных органов государственной власти  были обсуждены основные положения Законопроекта, а также мероприятия по подготовке его к реализ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 марте 2010 г. были проведены неоднократные встречи по оценке социально-экономических последствий Законопроекта с представителями  Федерации Независимых Профсоюзов России, с Комиссией по социальному страхованию, социальной защите, отраслям социальной сферы Российской трехсторонней комиссии по регулированию социально-трудовых 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 ходе обсуждения 2 апреля 2010 года Законопроекта с представителями общероссийских объединений профсоюзов и общероссийских объединений работодателей была достигнута договоренность ежеквартального представления Министерством финансов Российской Федерации координаторам Российской трехсторонней комиссии по регулированию социально-трудовых отношений информации о ходе реализации Законопроек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роведены совещания представителями Минфина России  с участием Сообщества финансистов России, а также в субъектах РФ (включая г. Москву, Республики Саха (Якутия), Коми, Татарстан, Оренбургскую област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одготовка законопроекта и обсуждение его в Правительстве РФ  и Госдуме РФ происходили в атмосфере открытости и активного участия в работе над ним заинтересованных 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125360"/>
            <a:ext cx="4572000" cy="475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Собственник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всего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имущества бюджетных учреждений – это либо Российская Федерация, либо субъект Российской Федерации, либо муниципальное образование (ст. 296 ГК РФ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-114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Принятие законопроекта приведет к приватизации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государственного имуще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1125360"/>
            <a:ext cx="4643280" cy="475164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Собственник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всего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имущества бюджетных учреждений – это либо Российская Федерация, либо субъект Российской Федерации, либо муниципальное образование (ст. 296 ГК РФ, п. 9 ст. 9.2 Закона «О некоммерческих организациях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661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ВСЕ ИМУЩЕСТВО ПО ПРЕЖНЕМУ ОСТАЕТСЯ В СОБСТВЕННОСТИ СООТВЕТСТВУЮЩЕГО ПУБЛИЧНОГО ПРАВОВОГО ОБРАЗОВАНИЯ, СЛЕДОВАТЕЛЬНО ПРИВАТИЗАЦИИ ЭТОГО ИМУЩЕСТВА НЕ ПРОИЗОЙД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92280"/>
            <a:ext cx="4500720" cy="518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Бюджетное учреждение не может быть признано несостоятельным (банкротом) (ч. 4 ст. 61 ГК РФ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Новые бюджетные учреждения начнут банкротить в целях завладения их имуществом и земельными участк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692280"/>
            <a:ext cx="4498920" cy="52578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Бюджетное учреждение не может быть признано несостоятельным (банкротом) (ч. 4 ст. 61 ГК Р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58972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БАНКРОТСТВО НОВОГО БЮДЖЕТНОГО УЧРЕЖДЕНИЯ НЕВОЗ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197000"/>
            <a:ext cx="3564000" cy="468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Имущество находится у учреждения на праве оперативного управления, управление, владение и распоряжение таким имуществом осуществляется с согласия собственника этого имущества (ст. 120 и 296 ГК РФ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не вправе отчуждать, либо иным способом распоряжаться имуществом, закрепленным за ним собственником или приобретенным за счет средств, выделенных ему собственником на приобретение такого имущества (ст. 298 ГК РФ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Земельный участок предоставляется бюджетному учреждению на праве постоянного (бессрочного) пользования, предусматривающем ограничение оборотоспособности земельного участка (ст. 20 Земельного кодекса РФ 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47600"/>
            <a:ext cx="9144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Новое бюджетное учреждение в обеспечение своих договоров будут закладывать земли и имущество, отдавать недвижимое имущество за долг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92360" y="1197000"/>
            <a:ext cx="5507280" cy="5040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владеет пользуется имуществом, закрепленным за ним на праве оперативного управления в пределах установленных законом, в соответствии с целями своей деятельности, назначением этого имущества, и если иное не установлено законом распоряжается этим имуществом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с согласия собственника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этого имущества (ст. 120, 296 ГК РФ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без согласия собственника не вправе распоряжаться особо ценным движимым имуществом, закрепленным за ним собственником или приобретенным бюджетным учреждением за счет средств, выделенных ему собственником на приобретение такого имущества, а также недвижимым имуществом (ст. 298 ГК РФ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В дополнение к Земельному кодексу, аналогичная норма, определяющая ограничение оборотоспособности земельного участка, предоставляемого бюджетному учреждению, устанавливается в статье 9.2 Закона «О некоммерческих организациях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ПЕРЕДАЧА В ЗАЛОГ НЕДВИЖИМОГО ИМУЩЕСТВА, ОСОБО ЦЕННОГО ДВИЖИМОГО ИМУЩЕСТВА, ЗЕМЕЛЬНЫХ УЧАСТКОВ БЕЗ СОГЛАСИЯ СОБСТВЕННИКА НЕЗАКО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07920"/>
            <a:ext cx="3492360" cy="489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Имущество находится у учреждения на праве оперативного управления, управление, владение и распоряжение таким имуществом осуществляется с согласия собственника этого имущества (ст. 120 и 296 ГК Р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«Новые бюджетные учреждения начнут злоупотреблять свободой, распродавая достояние государ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35280" y="981000"/>
            <a:ext cx="5508720" cy="4896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владеет пользуется имуществом, закрепленным за ним на праве оперативного управления в пределах установленных законом, в соответствии с целями своей деятельности, назначением этого имущества, и если иное не установлено законом распоряжается этим имуществом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с согласия собственника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этого имущества (ст. 120, 296 ГК РФ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Кроме того, законопроект регулирует отношения по крупным сделкам (к которым относятся сделки связанные с распоряжением денежными средствами, отчуждением иного имущества (которым БУ вправе распоряжаться самостоятельно), с передачей такого имущества в пользование или в залог, при условии что цена такой сделки превышает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10%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балансовой стоимости активов бюджетного учреждения). Крупная сделка может быть совершена только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с 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предварительного согласия учредителя (п. 12 ст. 9.2 Закона «О некоммерческих организациях» 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58972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ИМУЩЕСТВО ЯВЛЯЕТСЯ ГОСУДАРСТВЕННОЙ СОБСТВЕННОСТЬЮ, СДЕЛКИ С ИМУЩЕСТВОМ ПОДКОНТРОЛЬНЫ УЧРЕДИТЕЛЮ И СОБСТВЕНН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907920"/>
            <a:ext cx="4140360" cy="43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Закон «О некоммерческих организациях» на бюджетные и автономные учреждения не распространяется (п.5 ст. 1 Закона «О некоммерческих организациях» 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Бюджетное учреждение вправе осуществлять приносящую доход деятельность, если такое право предусмотрено учредительными документами (ст. 298 ГК РФ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108000" y="115920"/>
            <a:ext cx="925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По своему статусу новые бюджетные учреждения являются коммерческими организация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67280" y="836640"/>
            <a:ext cx="5076720" cy="4608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Закон «О некоммерческих организациях» распространяется на бюджетные учреждения и является «базовым» законом, ограничивающим режим распоряжения имуществом, устанавливающим требования публичности информации о деятельности бюджетного учреждения и др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Бюджетное учреждение вправе осуществлять приносящую доход деятельность при условии, что такая деятельность указана в его учредительных документах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лишь постольку, поскольку это служит достижению целей, ради которых оно создано, и соответствующую этим целям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ст. 298 ГК РФ, п. 4 ст. 9.2 Закона «О некоммерческих организациях» 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66100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ЗАКОНОПРОЕКТОМ УСИЛИВАЕТСЯ НОРМА, О ТОМ ЧТО БЮДЖЕТНЫЕ УЧРЕЖДЕНИЯ ЯВЛЯЮТСЯ КЛАССИЧЕСКИМИ НЕКОММЕРЧЕСКИМИ ОРГАНИЗАЦИЯМИ С ОГРАНИЧЕНИЯМИ СФЕРЫ ОСУЩЕСТВЛЕНИЯ ПРИНОСЯЩЕЙ ДОХОД ДЕЯТЕЛЬНОСТ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981000"/>
            <a:ext cx="3851280" cy="424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Госзадание для бюджетного учреждения должно содержать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предельные цены (тарифы)  на оплату соответствующих услуг в случаях, если законодательством предусмотрено их оказание на платной основе, либо порядок установления указанных цен и тарифов (ст. 69.2 БК РФ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МИФ: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Новые бюджетные учреждения будут наращивать платные услуги за счет сокращения объема бесплатных услу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981000"/>
            <a:ext cx="5364000" cy="4464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Госзадание для бюджетного учреждения должно содержать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предельные цены (тарифы)  на оплату соответствующих услуг в случаях, если законодательством предусмотрено их оказание на платной основе, либо порядок установления указанных цен и тарифов (ст. 69.2 БК РФ)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Бюджетное учреждение вправе оказывать платные услуги </a:t>
            </a:r>
            <a:r>
              <a:rPr b="1" lang="en-GB" sz="1700" spc="-1" strike="noStrike">
                <a:solidFill>
                  <a:srgbClr val="ff0000"/>
                </a:solidFill>
                <a:latin typeface="Times New Roman"/>
              </a:rPr>
              <a:t>только сверх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установленного государственного (муниципального) задания, а также в рамках госзадания, если это прямо установлено в федеральном законе, на </a:t>
            </a: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одинаковых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при оказании одних и тех же услуг условиях (ст. 9.2 Закона «О некоммерческих организациях» 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58972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ЗАКОНОПРОЕКТ УТОЧНЯЕТ ДЕЙСТВУЮЩИЕ НОРМЫ,  О ТОМ ЧТО ПЛАТНЫЕ УСЛУГИ МОГУТ ОКАЗЫВАТЬСЯ ТОЛЬКО СВЕРХ ГОСЗАДАНИЯ, А В РАМКАХ ГОСЗАДАНИЯ, ЕСЛИ ЭТО УСТАНОВЛЕНО ФЕДЕРАЛЬНЫМ ЗАКОНОМ (НАПРИМЕР, БИЛЕТЫ В ТЕАТРЫ, МУЗЕИ)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fimov I.L.</dc:creator>
  <dc:description/>
  <dc:language>en-US</dc:language>
  <cp:lastModifiedBy>eilyina</cp:lastModifiedBy>
  <cp:revision>0</cp:revision>
  <dc:subject/>
  <dc:title>No Slide Title</dc:title>
</cp:coreProperties>
</file>