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9880" y="739440"/>
            <a:ext cx="49388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024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BB313-AFCB-4E36-AEDD-CB397B1326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C4FAA4-BCE5-4648-A087-103B7842C3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EEF7E5-A8AE-4DB7-8F2B-D8A389C474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9343-BB70-4CAC-B9D3-C8D650FFD7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2191-E8EE-423E-B7D4-23F1B47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0556-05C5-4087-B454-56FB82C5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2133-FDC1-4ED5-B516-D38EE2516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82133-A71B-46F6-B44E-C63E355267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51699-D1D7-46D2-AFCC-5733DF3A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D336E-9FCA-4BAD-9C5A-214C1E4B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733DE-BED1-4E05-94A6-F389F460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38C2C-6E32-4591-9B43-CD21D890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F71E0-0717-489E-9421-C33713FE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ECBA4-51A5-4960-9B2D-4A4C72BD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5B09-F598-4658-AECD-51E4F284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48C15-098E-4761-B28E-7C0F52D9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D6364-5C61-4ACA-8107-F024E28C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BBB63-3265-45D9-A854-8DED16F3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0088D-0DF7-44E4-830C-5EF3EA40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46126-ADC3-4D8E-9027-0BF92AC00E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E19B4-3F8D-4547-8F09-696AD9FC1C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C5259-AE0A-4CD2-B145-F563C174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B57C1-3C07-4397-9E78-0514A9C0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1B78D-1EE4-4070-8495-D19B7584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00777-70F0-4A22-BF30-66BA9FB6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C119-6B39-4F60-BF44-4D2CD0A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F028A-90D2-49DF-ABB4-81CA2534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EB37B-A800-4C87-9F63-1D33564C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8783D-DC89-4437-86A3-013CAE5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AABFC-107A-4D9D-B268-D5B04E96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57F86-53FB-46FC-83C4-6A4311C1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4CD5E-599B-4C85-BAF7-EF88934B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5A46B-D77B-4C7F-8E81-5662B8E9D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7092-6144-42F0-8CAC-B41BEAAA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78A7-213F-4B84-9AE3-5DC7129C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954D-0165-4D82-AF02-F7B65815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2C2A-0814-4B16-A326-92595329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293DE-C6F1-47B7-B95B-38212118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36A6-A09D-4CBF-8FAB-E9378B59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31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200" y="1487520"/>
            <a:ext cx="88106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720"/>
            <a:ext cx="2589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DF9EB39-C782-4703-B779-A9AFAFC575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1C237D-E6AE-49AC-A625-2440F34E7C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BECBF0-2FCB-4816-B996-62B2DF2976A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32508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МИФЫ и РЕАЛЬНОСТЬ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о законопро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268280"/>
            <a:ext cx="406728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деятельности бюджетных учреждений осуществляется по смете. В итоге они  заинтересованы просто потратить бюджетные день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до конца финансового года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и обосновать увеличение сметы на следующий го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Связь финансирования и результатов деятельности учреждения напрямую отсутствует, осуществляется содержание действующей сети учреждений, а не объема услуг (ст. 161, 221 БК РФ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е повысит качество услуг для граждан, а также заинтересованность бюджетных учреждений в результатах свое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6872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1268280"/>
            <a:ext cx="5148360" cy="4464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выполнения госзадания осуществляется путем предоставления субсидии на его выполнение. Госзадание устанавливает показатели эффективности, объема, категории получателей госуслуги и результаты от оказания услуг, таким образом устанавливается связь между финансовым обеспечением учреждения и качеством (результатом) его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Не использованные до конца финансового года остатки субсидий, предоставленных бюджетному учреждению на выполнение госзадания,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остаются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в распоряжении бюджетного учреждения (п. 10 ст. 19 Законопроект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77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ФИНАНСОВОЕ ОБЕСПЕЧЕНИЕ УВЯЗЫВАЕТСЯ С РЕЗУЛЬТАТОМ И ПОКАЗАТЕЛЯМИ ЭФФЕКТИВНОСТИ ОКАЗАНИЯ ГОСУСЛУГИ, СОЗДАЕТСЯ МОТИВАЦИИЯ ДЛЯ ЭКОНОМИИ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Принятие законопроекта повлечет массовые увольн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16280"/>
            <a:ext cx="9144000" cy="3816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В законопроекте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прямо указано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что в связи с его принятием не требуется переназначение руководителей и работников казенных учреждений, созданных в соответствии с законом, и существующих бюджетных учреждений (п. 7 ст. 20 Законопроекта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25360"/>
            <a:ext cx="3492360" cy="408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(ст. 161, 219 БК РФ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роме того, информация о деятельности бюджетного учреждения закрыта для общественности, так как законодательство не устанавливает нормы о публикации такой информации в открытом досту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Средства бюджета, попав в новые бюджетные учреждения, перестанут контролироваться их использование не будет прозрач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125360"/>
            <a:ext cx="5651640" cy="410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5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Счета по прежнему будут открыты в Федеральном казначействе или финансовом органе, таким образом, хоть санкционирования за использованием субсидии на госзадание не предусматривается, но содержание операции становится видным, в том числе и для проверяющ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в открытом доступе в сети Интернет публикуются следующие сведения об учреждения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) Юридические документы - учредительные документы; свидетельство о государственной регистрации; решение учредителя о создании; решение учредителя о назначении руководителя; положения о филиалах, представитель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) Финансовые документы - план финансово-хозяйственной деятельности; годовая бухгалтерская отчетность; сведения о проведенных в отношении учреждения контрольных мероприятиях и их результатах; госзадание на оказание услуг (выполнение работ); отчет о результатах деятельности и об использовании закрепленного госимущества      (ст. 32 Закона «О некоммерческих организациях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093000"/>
            <a:ext cx="914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ДЕЯТЕЛЬНОСТЬ БЮДЖЕТНЫХ УЧРЕЖДЕНИЙ СТАНЕТ НАМНОГО ПРОЗРАЧНЕЕ ДЛЯ ОБЩЕСТВЕНН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аспределение госзаданий приведет к повышению корруп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052640"/>
            <a:ext cx="9144000" cy="4680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Коррупциогенный фактор создается не в процессе формирования сметы или госзадания, а в результате отсутствия прозрачности и нечеткости административных процед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аправлен на повышение публичности и открытости деятельности бюджетных учреждений (ст. 32 Закона «О некоммерческих организациях»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В бюджетной смете утверждается объем финансового обеспечения, в госзадании утверждается не только объем субсидии на его выполнение, но и устанавливаются показатели эффективности (ст. 69.2 БК Р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021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ЗАКОНОПРОЕКТ НЕ СОЗДАЕТ  КОРРУПЦИОГЕННЫХ Н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60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уководители новых бюджетных учреждений станут полновластными хозяевами бюджетных учреждений, не подконтрольными ник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268280"/>
            <a:ext cx="9144000" cy="44625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роме предусмотренной в настоящее время законодательством РФ ответственности (административной, уголовной) руководитель несет также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персональную ответствен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за просроченную кредиторскую задолженность бюджетного учреждения, превышающую предельно допустимые значения, установленную органом, осуществляющим функции и полномочия учредителя, за превышение которой трудовой договор с ним может быть расторгнут в одностороннем порядке (п. 6 ст. 19 Законопроекта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Руководитель бюджетного учреждения несет перед бюджетным учреждение ответственность в размере убытков, причиненных в результате совершения крупной сделки, в случае если эта сделка не была предварительно согласована с учредителем (п.12 ст. 9.2 Закона «О некоммерческих организациях»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013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 ПРОСРОЧЕННУЮ КРЕДИТОРСКУЮ ЗАДОЛЖЕННОСТЬ – УВОЛЬНЕНИЕ, ЗА УБЫТОК – ВЗЫСКАНИЕ В РАЗМЕРЕ УБЫ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УСТАНОВЛЕНИЕ УКАЗАННЫХ НОРМ ТРЕБУЕТ ОТ УЧРЕДИТЕЛЯ БЮДЖЕТНОГО УЧРЕЖДЕНИЯ ПОСТОЯННОГО МОНИТОРИНГА ФИНАНСОВОГО СОСТОЯНИЯ БЮДЖЕТНОГО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Целью законопроекта 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вышение качества государственных (муниципальных) услуг, предоставляемых нас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здание стимула и мотивации для учреждений к эффективному использованию финансовых ресурсов и государственного (муниципального)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станавливаются новые нормы, направленные на обеспечение прозрачности деятельности бюджет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место существующей информации об исполнении сметы, предметом отчетности бюджетного учреждения становится отчет о результатах деятельности и об использовании закрепленного за учреждением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конопроект вводит новые нормы контроля за бюджетным учреждением, в том числе посредством контроля за финансовым состоянием (просроченной кредиторской задолженности, за совершением крупной сделки,  информацией о деятельности бюджетного учреждения, в том числе в части выполнении государственного задания, о результатах проведенных в отношении учреждения контрольных мероприят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6526080"/>
            <a:ext cx="1511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Слайд 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41400"/>
            <a:ext cx="91440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Обсуждение законопроекта идет тихо, не обеспечена необходимая гласность и открыт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07920"/>
            <a:ext cx="9144000" cy="5329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анное утверждение не соответствует действ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была предусмотр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онцепцией развития гражданского законодательства Российской Федерации, одобренной решением Совета при Президенте РФ по кодификации и совершенствованию гражданского законодательства от 07.10.200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ланом мероприятий по совершенствованию государственного управления в 2009 - 2010 годах, утвержденным распоряжением Правительства РФ от 03.12.2009 № 1862-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Бюджетном послании 25 мая 2009 г. Президентом Российской Федерации Федеральному Собранию была поставлена задача совершенствования правового положения государственных (муниципальных)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далее см. слайд 2.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одолжение слайд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4640"/>
            <a:ext cx="9144000" cy="5545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осуществлялась Рабочей группой при Правительстве Российской Федерации, с участием представителей федеральных органов государственной власти, ГУ ВШ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внесен 31 декабря 2009 г. Правительством РФ  в Госдуму РФ и размещен на сайте Госдумы, направлен всем субъектам Российской Федерации, а также в Счетную и Общественную палаты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обсужден в 13 комитетах и комиссиях Государственной Думы и Совета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6 и 27 февраля 2010 года на совещании Министерства финансов РФ с представителями всех федеральных органов государственной власти  были обсуждены основные положения Законопроекта, а также мероприятия по подготовке его к ре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марте 2010 г. были проведены неоднократные встречи по оценке социально-экономических последствий Законопроекта с представителями  Федерации Независимых Профсоюзов России, с Комиссией по социальному страхованию, социальной защите, отраслям социальной сферы Российской трехсторонней комиссии по регулированию социально-трудовых 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ходе обсуждения 2 апреля 2010 года Законопроект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-трудовых отношений информации о ходе реализации Законо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оведены совещания представителями Минфина России  с участием Сообщества финансистов России, а также в субъектах РФ (включая г. Москву, Республики Саха (Якутия), Коми, Татарстан, Оренбургскую облас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дготовка законопроекта и обсуждение его в Правительстве РФ  и Госдуме РФ происходили в атмосфере открытости и активного участия в работе над ним заинтересован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125360"/>
            <a:ext cx="4572000" cy="475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11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ринятие законопроекта приведет к приватизации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осударственного имуще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125360"/>
            <a:ext cx="4643280" cy="47516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, п. 9 ст. 9.2 Закона «О некоммерческих организациях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ВСЕ ИМУЩЕСТВО ПО ПРЕЖНЕМУ ОСТАЕТСЯ В СОБСТВЕННОСТИ СООТВЕТСТВУЮЩЕГО ПУБЛИЧНОГО ПРАВОВОГО ОБРАЗОВАНИЯ, СЛЕДОВАТЕЛЬНО ПРИВАТИЗАЦИИ ЭТОГО ИМУЩЕСТВА НЕ ПРОИЗОЙД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92280"/>
            <a:ext cx="4500720" cy="518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начнут банкротить в целях завладения их имуществом и земельными участ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692280"/>
            <a:ext cx="4498920" cy="52578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589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БАНКРОТСТВО НОВОГО БЮДЖЕТНОГО УЧРЕЖДЕНИЯ НЕВОЗ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197000"/>
            <a:ext cx="3564000" cy="46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не вправе отчуждать, либо иным способом распоряжаться имуществом, закрепленным за ним собственником или приобретенным за счет средств, выделенных ему собственником на приобретение такого имущества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Земельный участок предоставляется бюджетному учреждению на праве постоянного (бессрочного) пользования, предусматривающем ограничение оборотоспособности земельного участка (ст. 20 Земельного кодекса РФ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7600"/>
            <a:ext cx="9144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ое бюджетное учреждение в обеспечение своих договоров будут закладывать земли и имущество, отдавать недвижимое имущество за дол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1197000"/>
            <a:ext cx="5507280" cy="5040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без согласия собственника не вправе распоряжаться особо ценным движимым имуществом, закрепленным за ним собственником или приобретенным бюджетным учреждением за счет средств, выделенных ему собственником на приобретение такого имущества, а также недвижимым имуществом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В дополнение к Земельному кодексу, аналогичная норма, определяющая ограничение оборотоспособности земельного участка, предоставляемого бюджетному учреждению, устанавливается в статье 9.2 Закона «О некоммерческих организациях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ПЕРЕДАЧА В ЗАЛОГ НЕДВИЖИМОГО ИМУЩЕСТВА, ОСОБО ЦЕННОГО ДВИЖИМОГО ИМУЩЕСТВА, ЗЕМЕЛЬНЫХ УЧАСТКОВ БЕЗ СОГЛАСИЯ СОБСТВЕННИКА НЕЗАКО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07920"/>
            <a:ext cx="3492360" cy="48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Новые бюджетные учреждения начнут злоупотреблять свободой, распродавая достояние государ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981000"/>
            <a:ext cx="5508720" cy="4896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законопроект регулирует отношения по крупным сделкам (к которым относятся сделки связанные с распоряжением денежными средствами, отчуждением иного имущества (которым БУ вправе распоряжаться самостоятельно), с передачей такого имущества в пользование или в залог, при условии что цена такой сделки превышает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балансовой стоимости активов бюджетного учреждения). Крупная сделка может быть совершена только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предварительного согласия учредителя (п. 12 ст. 9.2 Закона «О некоммерческих организациях»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ИМУЩЕСТВО ЯВЛЯЕТСЯ ГОСУДАРСТВЕННОЙ СОБСТВЕННОСТЬЮ, СДЕЛКИ С ИМУЩЕСТВОМ ПОДКОНТРОЛЬНЫ УЧРЕДИТЕЛЮ И СОБСТВЕН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07920"/>
            <a:ext cx="414036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на бюджетные и автономные учреждения не распространяется (п.5 ст. 1 Закона «О некоммерческих организациях»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, если такое право предусмотрено учредительными документами (ст. 298 ГК РФ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08000" y="115920"/>
            <a:ext cx="92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о своему статусу новые бюджетные учреждения являются коммерческими организаци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836640"/>
            <a:ext cx="5076720" cy="4608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распространяется на бюджетные учреждения и является «базовым» законом, ограничивающим режим распоряжения имуществом, устанавливающим требования публичности информации о деятельности бюджетного учреждения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 при условии, что такая деятельность указана в его учредительных документах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лишь постольку, поскольку это служит достижению целей, ради которых оно создано, и соответствующую этим целям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ст. 298 ГК РФ, п. 4 ст. 9.2 Закона «О некоммерческих организациях» 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6610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ЗАКОНОПРОЕКТОМ УСИЛИВАЕТСЯ НОРМА,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1000"/>
            <a:ext cx="3851280" cy="424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ИФ: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будут наращивать платные услуги за счет сокращения объема бесплатных усл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981000"/>
            <a:ext cx="5364000" cy="446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казывать платные услу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только свер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установленного государственного (муниципального) задания, а также в рамках госзадания, если это прямо установлено в федеральном законе, на 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одинаковы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при оказании одних и тех же услуг условиях (ст. 9.2 Закона «О некоммерческих организациях» 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КОНОПРОЕКТ УТОЧНЯЕТ ДЕЙСТВУЮЩИЕ НОРМЫ,  О ТОМ ЧТО ПЛАТНЫЕ УСЛУГИ МОГУТ ОКАЗЫВАТЬСЯ ТОЛЬКО СВЕРХ ГОСЗАДАНИЯ, А В РАМКАХ ГОСЗАДАНИЯ, ЕСЛИ ЭТО УСТАНОВЛЕНО ФЕДЕРАЛЬНЫМ ЗАКОНОМ (НАПРИМЕР, БИЛЕТЫ В ТЕАТРЫ, МУЗЕИ)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fimov I.L.</dc:creator>
  <dc:description/>
  <dc:language>en-US</dc:language>
  <cp:lastModifiedBy>eilyina</cp:lastModifiedBy>
  <cp:revision>0</cp:revision>
  <dc:subject/>
  <dc:title>No Slide Title</dc:title>
</cp:coreProperties>
</file>